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6D8F1BE-55FE-4430-8A8B-4DE8D15B81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548F4E14-E1BF-4C40-AF1D-74787809497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142640" y="4667040"/>
            <a:ext cx="4737240" cy="3676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142640" y="4667040"/>
            <a:ext cx="4737240" cy="3676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049640" y="8975880"/>
            <a:ext cx="3098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22DE32B-DD35-4BE2-9DDC-074D86D92A8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049640" y="8975880"/>
            <a:ext cx="3098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64A3391-A220-4353-9368-ACEB71F628D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F5D232D2-0945-4F6E-BB54-359C49942DB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B4AADED3-1EC9-4DEC-8D4D-894C06EC76C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Introducing TSP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tegories of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97560" y="4414680"/>
            <a:ext cx="39639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54480" y="6135840"/>
            <a:ext cx="1517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Rogers 83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5394240" y="3367080"/>
            <a:ext cx="1596960" cy="145728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06" h="918">
                <a:moveTo>
                  <a:pt x="630" y="797"/>
                </a:moveTo>
                <a:lnTo>
                  <a:pt x="726" y="845"/>
                </a:lnTo>
                <a:lnTo>
                  <a:pt x="822" y="877"/>
                </a:lnTo>
                <a:lnTo>
                  <a:pt x="894" y="893"/>
                </a:lnTo>
                <a:lnTo>
                  <a:pt x="1005" y="917"/>
                </a:lnTo>
                <a:lnTo>
                  <a:pt x="0" y="917"/>
                </a:lnTo>
                <a:lnTo>
                  <a:pt x="0" y="0"/>
                </a:lnTo>
                <a:lnTo>
                  <a:pt x="80" y="175"/>
                </a:lnTo>
                <a:lnTo>
                  <a:pt x="144" y="279"/>
                </a:lnTo>
                <a:lnTo>
                  <a:pt x="232" y="414"/>
                </a:lnTo>
                <a:lnTo>
                  <a:pt x="311" y="518"/>
                </a:lnTo>
                <a:lnTo>
                  <a:pt x="399" y="614"/>
                </a:lnTo>
                <a:lnTo>
                  <a:pt x="471" y="678"/>
                </a:lnTo>
                <a:lnTo>
                  <a:pt x="535" y="733"/>
                </a:lnTo>
                <a:lnTo>
                  <a:pt x="599" y="781"/>
                </a:lnTo>
                <a:lnTo>
                  <a:pt x="630" y="797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4457880" y="1604880"/>
            <a:ext cx="925200" cy="3219480"/>
          </a:xfrm>
          <a:custGeom>
            <a:avLst/>
            <a:gdLst>
              <a:gd name="textAreaLeft" fmla="*/ 0 w 925200"/>
              <a:gd name="textAreaRight" fmla="*/ 925560 w 92520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0" y="0"/>
                </a:moveTo>
                <a:lnTo>
                  <a:pt x="64" y="16"/>
                </a:lnTo>
                <a:lnTo>
                  <a:pt x="128" y="64"/>
                </a:lnTo>
                <a:lnTo>
                  <a:pt x="183" y="136"/>
                </a:lnTo>
                <a:lnTo>
                  <a:pt x="247" y="239"/>
                </a:lnTo>
                <a:lnTo>
                  <a:pt x="327" y="423"/>
                </a:lnTo>
                <a:lnTo>
                  <a:pt x="391" y="614"/>
                </a:lnTo>
                <a:lnTo>
                  <a:pt x="487" y="893"/>
                </a:lnTo>
                <a:lnTo>
                  <a:pt x="526" y="981"/>
                </a:lnTo>
                <a:lnTo>
                  <a:pt x="582" y="1117"/>
                </a:lnTo>
                <a:lnTo>
                  <a:pt x="582" y="2027"/>
                </a:lnTo>
                <a:lnTo>
                  <a:pt x="0" y="2027"/>
                </a:lnTo>
                <a:lnTo>
                  <a:pt x="0" y="0"/>
                </a:lnTo>
              </a:path>
            </a:pathLst>
          </a:custGeom>
          <a:solidFill>
            <a:srgbClr val="f6f4f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9040" y="5186520"/>
            <a:ext cx="1020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387880" y="5508720"/>
            <a:ext cx="1356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363120" y="5186520"/>
            <a:ext cx="1267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307040" y="5508720"/>
            <a:ext cx="1207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5470560" y="5186520"/>
            <a:ext cx="92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06540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39895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491328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59389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Freeform 17"/>
          <p:cNvSpPr/>
          <p:nvPr/>
        </p:nvSpPr>
        <p:spPr>
          <a:xfrm>
            <a:off x="2643120" y="3392640"/>
            <a:ext cx="889200" cy="1431720"/>
          </a:xfrm>
          <a:custGeom>
            <a:avLst/>
            <a:gdLst>
              <a:gd name="textAreaLeft" fmla="*/ 0 w 889200"/>
              <a:gd name="textAreaRight" fmla="*/ 889560 w 889200"/>
              <a:gd name="textAreaTop" fmla="*/ 0 h 1431720"/>
              <a:gd name="textAreaBottom" fmla="*/ 1432080 h 1431720"/>
            </a:gdLst>
            <a:ahLst/>
            <a:rect l="textAreaLeft" t="textAreaTop" r="textAreaRight" b="textAreaBottom"/>
            <a:pathLst>
              <a:path w="560" h="902">
                <a:moveTo>
                  <a:pt x="0" y="901"/>
                </a:moveTo>
                <a:lnTo>
                  <a:pt x="559" y="901"/>
                </a:lnTo>
                <a:lnTo>
                  <a:pt x="559" y="0"/>
                </a:lnTo>
                <a:lnTo>
                  <a:pt x="479" y="159"/>
                </a:lnTo>
                <a:lnTo>
                  <a:pt x="415" y="263"/>
                </a:lnTo>
                <a:lnTo>
                  <a:pt x="327" y="398"/>
                </a:lnTo>
                <a:lnTo>
                  <a:pt x="248" y="502"/>
                </a:lnTo>
                <a:lnTo>
                  <a:pt x="160" y="598"/>
                </a:lnTo>
                <a:lnTo>
                  <a:pt x="96" y="662"/>
                </a:lnTo>
                <a:lnTo>
                  <a:pt x="0" y="741"/>
                </a:lnTo>
                <a:lnTo>
                  <a:pt x="0" y="901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Freeform 18"/>
          <p:cNvSpPr/>
          <p:nvPr/>
        </p:nvSpPr>
        <p:spPr>
          <a:xfrm>
            <a:off x="3535200" y="1604880"/>
            <a:ext cx="925560" cy="3219480"/>
          </a:xfrm>
          <a:custGeom>
            <a:avLst/>
            <a:gdLst>
              <a:gd name="textAreaLeft" fmla="*/ 0 w 925560"/>
              <a:gd name="textAreaRight" fmla="*/ 925920 w 92556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582" y="0"/>
                </a:moveTo>
                <a:lnTo>
                  <a:pt x="518" y="16"/>
                </a:lnTo>
                <a:lnTo>
                  <a:pt x="454" y="64"/>
                </a:lnTo>
                <a:lnTo>
                  <a:pt x="399" y="136"/>
                </a:lnTo>
                <a:lnTo>
                  <a:pt x="335" y="239"/>
                </a:lnTo>
                <a:lnTo>
                  <a:pt x="255" y="423"/>
                </a:lnTo>
                <a:lnTo>
                  <a:pt x="191" y="614"/>
                </a:lnTo>
                <a:lnTo>
                  <a:pt x="95" y="893"/>
                </a:lnTo>
                <a:lnTo>
                  <a:pt x="56" y="981"/>
                </a:lnTo>
                <a:lnTo>
                  <a:pt x="0" y="1117"/>
                </a:lnTo>
                <a:lnTo>
                  <a:pt x="0" y="2027"/>
                </a:lnTo>
                <a:lnTo>
                  <a:pt x="582" y="2027"/>
                </a:lnTo>
                <a:lnTo>
                  <a:pt x="582" y="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Freeform 19"/>
          <p:cNvSpPr/>
          <p:nvPr/>
        </p:nvSpPr>
        <p:spPr>
          <a:xfrm>
            <a:off x="1973160" y="4572000"/>
            <a:ext cx="666720" cy="254160"/>
          </a:xfrm>
          <a:custGeom>
            <a:avLst/>
            <a:gdLst>
              <a:gd name="textAreaLeft" fmla="*/ 0 w 666720"/>
              <a:gd name="textAreaRight" fmla="*/ 667080 w 666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20" h="160">
                <a:moveTo>
                  <a:pt x="419" y="159"/>
                </a:moveTo>
                <a:lnTo>
                  <a:pt x="419" y="0"/>
                </a:lnTo>
                <a:lnTo>
                  <a:pt x="371" y="26"/>
                </a:lnTo>
                <a:lnTo>
                  <a:pt x="333" y="50"/>
                </a:lnTo>
                <a:lnTo>
                  <a:pt x="277" y="83"/>
                </a:lnTo>
                <a:lnTo>
                  <a:pt x="233" y="101"/>
                </a:lnTo>
                <a:lnTo>
                  <a:pt x="186" y="116"/>
                </a:lnTo>
                <a:lnTo>
                  <a:pt x="139" y="134"/>
                </a:lnTo>
                <a:lnTo>
                  <a:pt x="78" y="149"/>
                </a:lnTo>
                <a:lnTo>
                  <a:pt x="0" y="159"/>
                </a:lnTo>
                <a:lnTo>
                  <a:pt x="419" y="159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2260440" y="4873680"/>
            <a:ext cx="0" cy="353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nova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22720" y="1709640"/>
            <a:ext cx="355464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enthusia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people to adopt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understand that the technology may b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bugg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that there might be glit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692360" y="5076720"/>
            <a:ext cx="5499000" cy="97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3405240" y="2855880"/>
            <a:ext cx="1114200" cy="101268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2760840" y="1616040"/>
            <a:ext cx="645840" cy="2252520"/>
          </a:xfrm>
          <a:custGeom>
            <a:avLst/>
            <a:gdLst>
              <a:gd name="textAreaLeft" fmla="*/ 0 w 645840"/>
              <a:gd name="textAreaRight" fmla="*/ 645840 w 64584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8"/>
                </a:lnTo>
                <a:lnTo>
                  <a:pt x="0" y="1418"/>
                </a:lnTo>
                <a:lnTo>
                  <a:pt x="0" y="0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116080" y="1616040"/>
            <a:ext cx="646200" cy="22525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8"/>
                </a:lnTo>
                <a:lnTo>
                  <a:pt x="406" y="1418"/>
                </a:lnTo>
                <a:lnTo>
                  <a:pt x="406" y="0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Freeform 9"/>
          <p:cNvSpPr/>
          <p:nvPr/>
        </p:nvSpPr>
        <p:spPr>
          <a:xfrm>
            <a:off x="1495440" y="286848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1015920" y="370368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1d1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478320" y="5229360"/>
            <a:ext cx="360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ors would be the first on the block to own an electric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1900080" y="5200560"/>
            <a:ext cx="988920" cy="738360"/>
            <a:chOff x="1900080" y="5200560"/>
            <a:chExt cx="988920" cy="738360"/>
          </a:xfrm>
        </p:grpSpPr>
        <p:sp>
          <p:nvSpPr>
            <p:cNvPr id="165" name="AutoShape 13"/>
            <p:cNvSpPr/>
            <p:nvPr/>
          </p:nvSpPr>
          <p:spPr>
            <a:xfrm flipV="1">
              <a:off x="2003400" y="5208480"/>
              <a:ext cx="795240" cy="24768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680"/>
                <a:gd name="textAreaBottom" fmla="*/ 206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66" name="Group 14"/>
            <p:cNvGrpSpPr/>
            <p:nvPr/>
          </p:nvGrpSpPr>
          <p:grpSpPr>
            <a:xfrm>
              <a:off x="1903320" y="5457960"/>
              <a:ext cx="983160" cy="350640"/>
              <a:chOff x="1903320" y="5457960"/>
              <a:chExt cx="983160" cy="350640"/>
            </a:xfrm>
          </p:grpSpPr>
          <p:sp>
            <p:nvSpPr>
              <p:cNvPr id="167" name="Oval 15"/>
              <p:cNvSpPr/>
              <p:nvPr/>
            </p:nvSpPr>
            <p:spPr>
              <a:xfrm rot="360000">
                <a:off x="1920240" y="546372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8" name="Oval 16"/>
              <p:cNvSpPr/>
              <p:nvPr/>
            </p:nvSpPr>
            <p:spPr>
              <a:xfrm rot="21300000">
                <a:off x="2738160" y="546408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9" name="AutoShape 17"/>
              <p:cNvSpPr/>
              <p:nvPr/>
            </p:nvSpPr>
            <p:spPr>
              <a:xfrm flipV="1">
                <a:off x="1947600" y="5458680"/>
                <a:ext cx="893880" cy="34452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520"/>
                  <a:gd name="textAreaBottom" fmla="*/ 30816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8"/>
            <p:cNvGrpSpPr/>
            <p:nvPr/>
          </p:nvGrpSpPr>
          <p:grpSpPr>
            <a:xfrm>
              <a:off x="1900080" y="5200560"/>
              <a:ext cx="988920" cy="738360"/>
              <a:chOff x="1900080" y="5200560"/>
              <a:chExt cx="988920" cy="738360"/>
            </a:xfrm>
          </p:grpSpPr>
          <p:sp>
            <p:nvSpPr>
              <p:cNvPr id="171" name="Line 19"/>
              <p:cNvSpPr/>
              <p:nvPr/>
            </p:nvSpPr>
            <p:spPr>
              <a:xfrm>
                <a:off x="2681280" y="5504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72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0080" y="5200560"/>
                <a:ext cx="98892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0080" y="5580000"/>
                <a:ext cx="988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4" name="Group 22"/>
          <p:cNvGrpSpPr/>
          <p:nvPr/>
        </p:nvGrpSpPr>
        <p:grpSpPr>
          <a:xfrm>
            <a:off x="2886120" y="4800600"/>
            <a:ext cx="407880" cy="550800"/>
            <a:chOff x="2886120" y="4800600"/>
            <a:chExt cx="407880" cy="550800"/>
          </a:xfrm>
        </p:grpSpPr>
        <p:sp>
          <p:nvSpPr>
            <p:cNvPr id="175" name="Freeform 23"/>
            <p:cNvSpPr/>
            <p:nvPr/>
          </p:nvSpPr>
          <p:spPr>
            <a:xfrm>
              <a:off x="2931840" y="48276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76" name="Picture 24" descr=""/>
            <p:cNvPicPr/>
            <p:nvPr/>
          </p:nvPicPr>
          <p:blipFill>
            <a:blip r:embed="rId3"/>
            <a:stretch/>
          </p:blipFill>
          <p:spPr>
            <a:xfrm>
              <a:off x="2886120" y="48006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AutoShape 25"/>
          <p:cNvSpPr/>
          <p:nvPr/>
        </p:nvSpPr>
        <p:spPr>
          <a:xfrm>
            <a:off x="1073160" y="3911760"/>
            <a:ext cx="485640" cy="658800"/>
          </a:xfrm>
          <a:prstGeom prst="upArrow">
            <a:avLst>
              <a:gd name="adj1" fmla="val 50000"/>
              <a:gd name="adj2" fmla="val 33914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15080" y="1630440"/>
            <a:ext cx="390024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isionar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ike innovators, they are typically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o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 technologi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have the insight to match an emerging technology to a strategic opportun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743120" y="5095800"/>
            <a:ext cx="5842080" cy="978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406680" y="5261040"/>
            <a:ext cx="414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an electric car because they can imagine the benefi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3438360" y="285588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Freeform 8"/>
          <p:cNvSpPr/>
          <p:nvPr/>
        </p:nvSpPr>
        <p:spPr>
          <a:xfrm>
            <a:off x="28065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Freeform 9"/>
          <p:cNvSpPr/>
          <p:nvPr/>
        </p:nvSpPr>
        <p:spPr>
          <a:xfrm>
            <a:off x="21621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Freeform 10"/>
          <p:cNvSpPr/>
          <p:nvPr/>
        </p:nvSpPr>
        <p:spPr>
          <a:xfrm>
            <a:off x="1541520" y="2881440"/>
            <a:ext cx="622080" cy="987120"/>
          </a:xfrm>
          <a:custGeom>
            <a:avLst/>
            <a:gdLst>
              <a:gd name="textAreaLeft" fmla="*/ 0 w 622080"/>
              <a:gd name="textAreaRight" fmla="*/ 622440 w 622080"/>
              <a:gd name="textAreaTop" fmla="*/ 0 h 987120"/>
              <a:gd name="textAreaBottom" fmla="*/ 987120 h 98712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1062000" y="3691080"/>
            <a:ext cx="480960" cy="17748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1906560" y="5186520"/>
            <a:ext cx="988920" cy="737640"/>
            <a:chOff x="1906560" y="5186520"/>
            <a:chExt cx="988920" cy="737640"/>
          </a:xfrm>
        </p:grpSpPr>
        <p:sp>
          <p:nvSpPr>
            <p:cNvPr id="188" name="AutoShape 13"/>
            <p:cNvSpPr/>
            <p:nvPr/>
          </p:nvSpPr>
          <p:spPr>
            <a:xfrm flipV="1">
              <a:off x="2009880" y="519336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89" name="Group 14"/>
            <p:cNvGrpSpPr/>
            <p:nvPr/>
          </p:nvGrpSpPr>
          <p:grpSpPr>
            <a:xfrm>
              <a:off x="1909800" y="5443200"/>
              <a:ext cx="982800" cy="350280"/>
              <a:chOff x="1909800" y="5443200"/>
              <a:chExt cx="982800" cy="350280"/>
            </a:xfrm>
          </p:grpSpPr>
          <p:sp>
            <p:nvSpPr>
              <p:cNvPr id="190" name="Oval 15"/>
              <p:cNvSpPr/>
              <p:nvPr/>
            </p:nvSpPr>
            <p:spPr>
              <a:xfrm rot="360000">
                <a:off x="1926720" y="544896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1" name="Oval 16"/>
              <p:cNvSpPr/>
              <p:nvPr/>
            </p:nvSpPr>
            <p:spPr>
              <a:xfrm rot="21300000">
                <a:off x="2744640" y="544932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2" name="AutoShape 17"/>
              <p:cNvSpPr/>
              <p:nvPr/>
            </p:nvSpPr>
            <p:spPr>
              <a:xfrm flipV="1">
                <a:off x="1954080" y="544500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8"/>
            <p:cNvGrpSpPr/>
            <p:nvPr/>
          </p:nvGrpSpPr>
          <p:grpSpPr>
            <a:xfrm>
              <a:off x="1906560" y="5186520"/>
              <a:ext cx="988920" cy="737640"/>
              <a:chOff x="1906560" y="5186520"/>
              <a:chExt cx="988920" cy="737640"/>
            </a:xfrm>
          </p:grpSpPr>
          <p:sp>
            <p:nvSpPr>
              <p:cNvPr id="194" name="Line 19"/>
              <p:cNvSpPr/>
              <p:nvPr/>
            </p:nvSpPr>
            <p:spPr>
              <a:xfrm>
                <a:off x="2687760" y="54896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95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6560" y="518652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6560" y="556560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7" name="Group 22"/>
          <p:cNvGrpSpPr/>
          <p:nvPr/>
        </p:nvGrpSpPr>
        <p:grpSpPr>
          <a:xfrm>
            <a:off x="2892600" y="4786200"/>
            <a:ext cx="407880" cy="550800"/>
            <a:chOff x="2892600" y="4786200"/>
            <a:chExt cx="407880" cy="550800"/>
          </a:xfrm>
        </p:grpSpPr>
        <p:sp>
          <p:nvSpPr>
            <p:cNvPr id="198" name="Freeform 23"/>
            <p:cNvSpPr/>
            <p:nvPr/>
          </p:nvSpPr>
          <p:spPr>
            <a:xfrm>
              <a:off x="2938320" y="48132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99" name="Picture 24" descr=""/>
            <p:cNvPicPr/>
            <p:nvPr/>
          </p:nvPicPr>
          <p:blipFill>
            <a:blip r:embed="rId3"/>
            <a:stretch/>
          </p:blipFill>
          <p:spPr>
            <a:xfrm>
              <a:off x="2892600" y="47862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AutoShape 25"/>
          <p:cNvSpPr/>
          <p:nvPr/>
        </p:nvSpPr>
        <p:spPr>
          <a:xfrm>
            <a:off x="156204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89680" y="1709280"/>
            <a:ext cx="348120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agmat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relate to technology, but driven by a strong sense of practic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nt to see well-established references before buying into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747800" y="5099040"/>
            <a:ext cx="641052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315600" y="5165640"/>
            <a:ext cx="481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when they’ve seen electri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s prove themselves and when there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service stations on the roa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1924200" y="5207040"/>
            <a:ext cx="988920" cy="737640"/>
            <a:chOff x="1924200" y="5207040"/>
            <a:chExt cx="988920" cy="737640"/>
          </a:xfrm>
        </p:grpSpPr>
        <p:sp>
          <p:nvSpPr>
            <p:cNvPr id="206" name="AutoShape 8"/>
            <p:cNvSpPr/>
            <p:nvPr/>
          </p:nvSpPr>
          <p:spPr>
            <a:xfrm flipV="1">
              <a:off x="2027520" y="521388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07" name="Group 9"/>
            <p:cNvGrpSpPr/>
            <p:nvPr/>
          </p:nvGrpSpPr>
          <p:grpSpPr>
            <a:xfrm>
              <a:off x="1927440" y="5463720"/>
              <a:ext cx="982800" cy="349920"/>
              <a:chOff x="1927440" y="5463720"/>
              <a:chExt cx="982800" cy="349920"/>
            </a:xfrm>
          </p:grpSpPr>
          <p:sp>
            <p:nvSpPr>
              <p:cNvPr id="208" name="Oval 10"/>
              <p:cNvSpPr/>
              <p:nvPr/>
            </p:nvSpPr>
            <p:spPr>
              <a:xfrm rot="360000">
                <a:off x="1944360" y="546948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9" name="Oval 11"/>
              <p:cNvSpPr/>
              <p:nvPr/>
            </p:nvSpPr>
            <p:spPr>
              <a:xfrm rot="21300000">
                <a:off x="2762280" y="546984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 flipV="1">
                <a:off x="1971720" y="546552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1924200" y="5207040"/>
              <a:ext cx="988920" cy="737640"/>
              <a:chOff x="1924200" y="5207040"/>
              <a:chExt cx="988920" cy="737640"/>
            </a:xfrm>
          </p:grpSpPr>
          <p:sp>
            <p:nvSpPr>
              <p:cNvPr id="212" name="Line 14"/>
              <p:cNvSpPr/>
              <p:nvPr/>
            </p:nvSpPr>
            <p:spPr>
              <a:xfrm>
                <a:off x="2705400" y="550980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13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4200" y="520704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4200" y="558612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5" name="Group 17"/>
          <p:cNvGrpSpPr/>
          <p:nvPr/>
        </p:nvGrpSpPr>
        <p:grpSpPr>
          <a:xfrm>
            <a:off x="2909880" y="4807080"/>
            <a:ext cx="407880" cy="550800"/>
            <a:chOff x="2909880" y="4807080"/>
            <a:chExt cx="407880" cy="550800"/>
          </a:xfrm>
        </p:grpSpPr>
        <p:sp>
          <p:nvSpPr>
            <p:cNvPr id="216" name="Freeform 18"/>
            <p:cNvSpPr/>
            <p:nvPr/>
          </p:nvSpPr>
          <p:spPr>
            <a:xfrm>
              <a:off x="2955600" y="483408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17" name="Picture 19" descr=""/>
            <p:cNvPicPr/>
            <p:nvPr/>
          </p:nvPicPr>
          <p:blipFill>
            <a:blip r:embed="rId3"/>
            <a:stretch/>
          </p:blipFill>
          <p:spPr>
            <a:xfrm>
              <a:off x="2909880" y="480708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Rectangle 20"/>
          <p:cNvSpPr/>
          <p:nvPr/>
        </p:nvSpPr>
        <p:spPr>
          <a:xfrm>
            <a:off x="304920" y="1003320"/>
            <a:ext cx="750384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9" name="Freeform 21"/>
          <p:cNvSpPr/>
          <p:nvPr/>
        </p:nvSpPr>
        <p:spPr>
          <a:xfrm>
            <a:off x="3456000" y="285120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Freeform 22"/>
          <p:cNvSpPr/>
          <p:nvPr/>
        </p:nvSpPr>
        <p:spPr>
          <a:xfrm>
            <a:off x="2811600" y="1622520"/>
            <a:ext cx="645840" cy="2241360"/>
          </a:xfrm>
          <a:custGeom>
            <a:avLst/>
            <a:gdLst>
              <a:gd name="textAreaLeft" fmla="*/ 0 w 645840"/>
              <a:gd name="textAreaRight" fmla="*/ 645840 w 64584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Freeform 23"/>
          <p:cNvSpPr/>
          <p:nvPr/>
        </p:nvSpPr>
        <p:spPr>
          <a:xfrm>
            <a:off x="2166840" y="1631880"/>
            <a:ext cx="646200" cy="22273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Freeform 24"/>
          <p:cNvSpPr/>
          <p:nvPr/>
        </p:nvSpPr>
        <p:spPr>
          <a:xfrm>
            <a:off x="1533600" y="2863800"/>
            <a:ext cx="622080" cy="1000080"/>
          </a:xfrm>
          <a:custGeom>
            <a:avLst/>
            <a:gdLst>
              <a:gd name="textAreaLeft" fmla="*/ 0 w 622080"/>
              <a:gd name="textAreaRight" fmla="*/ 622440 w 6220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Freeform 25"/>
          <p:cNvSpPr/>
          <p:nvPr/>
        </p:nvSpPr>
        <p:spPr>
          <a:xfrm>
            <a:off x="1054080" y="36860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AutoShape 26"/>
          <p:cNvSpPr/>
          <p:nvPr/>
        </p:nvSpPr>
        <p:spPr>
          <a:xfrm>
            <a:off x="2220840" y="38736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te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25520" y="1477440"/>
            <a:ext cx="392292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serv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comfortable with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ait until the new technology is established as a standar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need lots of support if they are to willingly adopt the new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443400" y="2835360"/>
            <a:ext cx="1001520" cy="101268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27986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Freeform 7"/>
          <p:cNvSpPr/>
          <p:nvPr/>
        </p:nvSpPr>
        <p:spPr>
          <a:xfrm>
            <a:off x="21542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Freeform 8"/>
          <p:cNvSpPr/>
          <p:nvPr/>
        </p:nvSpPr>
        <p:spPr>
          <a:xfrm>
            <a:off x="1546200" y="2847960"/>
            <a:ext cx="558720" cy="1000080"/>
          </a:xfrm>
          <a:custGeom>
            <a:avLst/>
            <a:gdLst>
              <a:gd name="textAreaLeft" fmla="*/ 0 w 558720"/>
              <a:gd name="textAreaRight" fmla="*/ 559080 w 5587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Freeform 9"/>
          <p:cNvSpPr/>
          <p:nvPr/>
        </p:nvSpPr>
        <p:spPr>
          <a:xfrm>
            <a:off x="1066680" y="3670200"/>
            <a:ext cx="432000" cy="177840"/>
          </a:xfrm>
          <a:custGeom>
            <a:avLst/>
            <a:gdLst>
              <a:gd name="textAreaLeft" fmla="*/ 0 w 432000"/>
              <a:gd name="textAreaRight" fmla="*/ 432360 w 43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1735200" y="5264280"/>
            <a:ext cx="628956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3246840" y="5332320"/>
            <a:ext cx="4799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not purchase until most people ha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switch and it becomes inconveni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ive a gasoline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1903320" y="5361120"/>
            <a:ext cx="889200" cy="737640"/>
            <a:chOff x="1903320" y="5361120"/>
            <a:chExt cx="889200" cy="737640"/>
          </a:xfrm>
        </p:grpSpPr>
        <p:sp>
          <p:nvSpPr>
            <p:cNvPr id="235" name="AutoShape 13"/>
            <p:cNvSpPr/>
            <p:nvPr/>
          </p:nvSpPr>
          <p:spPr>
            <a:xfrm flipV="1">
              <a:off x="1995840" y="5367960"/>
              <a:ext cx="714960" cy="247320"/>
            </a:xfrm>
            <a:custGeom>
              <a:avLst/>
              <a:gdLst>
                <a:gd name="textAreaLeft" fmla="*/ 118440 w 714960"/>
                <a:gd name="textAreaRight" fmla="*/ 596520 w 71496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36" name="Group 14"/>
            <p:cNvGrpSpPr/>
            <p:nvPr/>
          </p:nvGrpSpPr>
          <p:grpSpPr>
            <a:xfrm>
              <a:off x="1904400" y="5618520"/>
              <a:ext cx="885960" cy="348480"/>
              <a:chOff x="1904400" y="5618520"/>
              <a:chExt cx="885960" cy="348480"/>
            </a:xfrm>
          </p:grpSpPr>
          <p:sp>
            <p:nvSpPr>
              <p:cNvPr id="237" name="Oval 15"/>
              <p:cNvSpPr/>
              <p:nvPr/>
            </p:nvSpPr>
            <p:spPr>
              <a:xfrm rot="360000">
                <a:off x="192168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38" name="Oval 16"/>
              <p:cNvSpPr/>
              <p:nvPr/>
            </p:nvSpPr>
            <p:spPr>
              <a:xfrm rot="21300000">
                <a:off x="265644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39" name="AutoShape 17"/>
              <p:cNvSpPr/>
              <p:nvPr/>
            </p:nvSpPr>
            <p:spPr>
              <a:xfrm flipV="1">
                <a:off x="1945800" y="5619600"/>
                <a:ext cx="803520" cy="344160"/>
              </a:xfrm>
              <a:custGeom>
                <a:avLst/>
                <a:gdLst>
                  <a:gd name="textAreaLeft" fmla="*/ 84240 w 803520"/>
                  <a:gd name="textAreaRight" fmla="*/ 719280 w 80352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8"/>
            <p:cNvGrpSpPr/>
            <p:nvPr/>
          </p:nvGrpSpPr>
          <p:grpSpPr>
            <a:xfrm>
              <a:off x="1903320" y="5361120"/>
              <a:ext cx="889200" cy="737640"/>
              <a:chOff x="1903320" y="5361120"/>
              <a:chExt cx="889200" cy="737640"/>
            </a:xfrm>
          </p:grpSpPr>
          <p:sp>
            <p:nvSpPr>
              <p:cNvPr id="241" name="Line 19"/>
              <p:cNvSpPr/>
              <p:nvPr/>
            </p:nvSpPr>
            <p:spPr>
              <a:xfrm>
                <a:off x="2605320" y="5663880"/>
                <a:ext cx="11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42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3320" y="5361120"/>
                <a:ext cx="8892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3320" y="5740200"/>
                <a:ext cx="88920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4" name="Group 22"/>
          <p:cNvGrpSpPr/>
          <p:nvPr/>
        </p:nvGrpSpPr>
        <p:grpSpPr>
          <a:xfrm>
            <a:off x="2889360" y="4960800"/>
            <a:ext cx="366480" cy="550800"/>
            <a:chOff x="2889360" y="4960800"/>
            <a:chExt cx="366480" cy="550800"/>
          </a:xfrm>
        </p:grpSpPr>
        <p:sp>
          <p:nvSpPr>
            <p:cNvPr id="245" name="Freeform 23"/>
            <p:cNvSpPr/>
            <p:nvPr/>
          </p:nvSpPr>
          <p:spPr>
            <a:xfrm>
              <a:off x="2930760" y="4987800"/>
              <a:ext cx="283680" cy="52236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46" name="Picture 24" descr=""/>
            <p:cNvPicPr/>
            <p:nvPr/>
          </p:nvPicPr>
          <p:blipFill>
            <a:blip r:embed="rId3"/>
            <a:stretch/>
          </p:blipFill>
          <p:spPr>
            <a:xfrm>
              <a:off x="2889360" y="4960800"/>
              <a:ext cx="3664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AutoShape 25"/>
          <p:cNvSpPr/>
          <p:nvPr/>
        </p:nvSpPr>
        <p:spPr>
          <a:xfrm>
            <a:off x="2843280" y="3886200"/>
            <a:ext cx="436320" cy="658800"/>
          </a:xfrm>
          <a:prstGeom prst="upArrow">
            <a:avLst>
              <a:gd name="adj1" fmla="val 50000"/>
              <a:gd name="adj2" fmla="val 37748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ggar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6160" y="1709640"/>
            <a:ext cx="3784680" cy="30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kep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’t stand to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’t want anything to do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y quick to point out what is wrong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0" name="Freeform 5"/>
          <p:cNvSpPr/>
          <p:nvPr/>
        </p:nvSpPr>
        <p:spPr>
          <a:xfrm>
            <a:off x="3036960" y="2852640"/>
            <a:ext cx="1114200" cy="101304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23922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17478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1127160" y="286560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4" name="Freeform 9"/>
          <p:cNvSpPr/>
          <p:nvPr/>
        </p:nvSpPr>
        <p:spPr>
          <a:xfrm>
            <a:off x="647640" y="36878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308240" y="5083200"/>
            <a:ext cx="5829120" cy="9777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2971800" y="5235480"/>
            <a:ext cx="401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 electric car?...you must be craz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57" name="Group 12"/>
          <p:cNvGrpSpPr/>
          <p:nvPr/>
        </p:nvGrpSpPr>
        <p:grpSpPr>
          <a:xfrm>
            <a:off x="1533600" y="5183280"/>
            <a:ext cx="988920" cy="737640"/>
            <a:chOff x="1533600" y="5183280"/>
            <a:chExt cx="988920" cy="737640"/>
          </a:xfrm>
        </p:grpSpPr>
        <p:sp>
          <p:nvSpPr>
            <p:cNvPr id="258" name="AutoShape 13"/>
            <p:cNvSpPr/>
            <p:nvPr/>
          </p:nvSpPr>
          <p:spPr>
            <a:xfrm flipV="1">
              <a:off x="1636560" y="519012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59" name="Group 14"/>
            <p:cNvGrpSpPr/>
            <p:nvPr/>
          </p:nvGrpSpPr>
          <p:grpSpPr>
            <a:xfrm>
              <a:off x="1536840" y="5439960"/>
              <a:ext cx="982440" cy="349920"/>
              <a:chOff x="1536840" y="5439960"/>
              <a:chExt cx="982440" cy="349920"/>
            </a:xfrm>
          </p:grpSpPr>
          <p:sp>
            <p:nvSpPr>
              <p:cNvPr id="260" name="Oval 15"/>
              <p:cNvSpPr/>
              <p:nvPr/>
            </p:nvSpPr>
            <p:spPr>
              <a:xfrm rot="360000">
                <a:off x="1553760" y="544572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1" name="Oval 16"/>
              <p:cNvSpPr/>
              <p:nvPr/>
            </p:nvSpPr>
            <p:spPr>
              <a:xfrm rot="21300000">
                <a:off x="2371680" y="544608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2" name="AutoShape 17"/>
              <p:cNvSpPr/>
              <p:nvPr/>
            </p:nvSpPr>
            <p:spPr>
              <a:xfrm flipV="1">
                <a:off x="1581120" y="544176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8"/>
            <p:cNvGrpSpPr/>
            <p:nvPr/>
          </p:nvGrpSpPr>
          <p:grpSpPr>
            <a:xfrm>
              <a:off x="1533600" y="5183280"/>
              <a:ext cx="988920" cy="737640"/>
              <a:chOff x="1533600" y="5183280"/>
              <a:chExt cx="988920" cy="737640"/>
            </a:xfrm>
          </p:grpSpPr>
          <p:sp>
            <p:nvSpPr>
              <p:cNvPr id="264" name="Line 19"/>
              <p:cNvSpPr/>
              <p:nvPr/>
            </p:nvSpPr>
            <p:spPr>
              <a:xfrm>
                <a:off x="2314440" y="5486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65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3600" y="518328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3600" y="556236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7" name="Group 22"/>
          <p:cNvGrpSpPr/>
          <p:nvPr/>
        </p:nvGrpSpPr>
        <p:grpSpPr>
          <a:xfrm>
            <a:off x="2519280" y="4782960"/>
            <a:ext cx="407880" cy="550800"/>
            <a:chOff x="2519280" y="4782960"/>
            <a:chExt cx="407880" cy="550800"/>
          </a:xfrm>
        </p:grpSpPr>
        <p:sp>
          <p:nvSpPr>
            <p:cNvPr id="268" name="Freeform 23"/>
            <p:cNvSpPr/>
            <p:nvPr/>
          </p:nvSpPr>
          <p:spPr>
            <a:xfrm>
              <a:off x="2565360" y="480996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69" name="Picture 24" descr=""/>
            <p:cNvPicPr/>
            <p:nvPr/>
          </p:nvPicPr>
          <p:blipFill>
            <a:blip r:embed="rId3"/>
            <a:stretch/>
          </p:blipFill>
          <p:spPr>
            <a:xfrm>
              <a:off x="2519280" y="478296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AutoShape 25"/>
          <p:cNvSpPr/>
          <p:nvPr/>
        </p:nvSpPr>
        <p:spPr>
          <a:xfrm>
            <a:off x="324792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with the Categor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s are made up of individuals in each of the categories of ado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novators and early adopters will pick up the new technology and run with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opter categorie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tter packaging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ences from early ado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ck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477960" y="1753920"/>
            <a:ext cx="46162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ore believes that there is a gap separating each group which symbolizes the difficulty that any group will have in accepting a new technology if it is presented in the same way as it was presented to the group to its immediate lef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6002280" y="4051440"/>
            <a:ext cx="2565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Groups to the right of early adopter also need positive references from early adopt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5610240" y="5048280"/>
            <a:ext cx="760320" cy="689040"/>
          </a:xfrm>
          <a:custGeom>
            <a:avLst/>
            <a:gdLst>
              <a:gd name="textAreaLeft" fmla="*/ 0 w 760320"/>
              <a:gd name="textAreaRight" fmla="*/ 760680 w 7603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479" h="434">
                <a:moveTo>
                  <a:pt x="300" y="375"/>
                </a:moveTo>
                <a:lnTo>
                  <a:pt x="345" y="398"/>
                </a:lnTo>
                <a:lnTo>
                  <a:pt x="390" y="413"/>
                </a:lnTo>
                <a:lnTo>
                  <a:pt x="425" y="425"/>
                </a:lnTo>
                <a:lnTo>
                  <a:pt x="478" y="433"/>
                </a:lnTo>
                <a:lnTo>
                  <a:pt x="0" y="433"/>
                </a:lnTo>
                <a:lnTo>
                  <a:pt x="0" y="0"/>
                </a:lnTo>
                <a:lnTo>
                  <a:pt x="38" y="80"/>
                </a:lnTo>
                <a:lnTo>
                  <a:pt x="68" y="133"/>
                </a:lnTo>
                <a:lnTo>
                  <a:pt x="110" y="197"/>
                </a:lnTo>
                <a:lnTo>
                  <a:pt x="148" y="247"/>
                </a:lnTo>
                <a:lnTo>
                  <a:pt x="190" y="292"/>
                </a:lnTo>
                <a:lnTo>
                  <a:pt x="224" y="319"/>
                </a:lnTo>
                <a:lnTo>
                  <a:pt x="254" y="345"/>
                </a:lnTo>
                <a:lnTo>
                  <a:pt x="284" y="368"/>
                </a:lnTo>
                <a:lnTo>
                  <a:pt x="300" y="375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5081760" y="4206960"/>
            <a:ext cx="439560" cy="1530360"/>
          </a:xfrm>
          <a:custGeom>
            <a:avLst/>
            <a:gdLst>
              <a:gd name="textAreaLeft" fmla="*/ 0 w 439560"/>
              <a:gd name="textAreaRight" fmla="*/ 439920 w 4395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7" h="964">
                <a:moveTo>
                  <a:pt x="0" y="0"/>
                </a:moveTo>
                <a:lnTo>
                  <a:pt x="30" y="11"/>
                </a:lnTo>
                <a:lnTo>
                  <a:pt x="60" y="34"/>
                </a:lnTo>
                <a:lnTo>
                  <a:pt x="87" y="68"/>
                </a:lnTo>
                <a:lnTo>
                  <a:pt x="117" y="117"/>
                </a:lnTo>
                <a:lnTo>
                  <a:pt x="151" y="201"/>
                </a:lnTo>
                <a:lnTo>
                  <a:pt x="185" y="295"/>
                </a:lnTo>
                <a:lnTo>
                  <a:pt x="231" y="428"/>
                </a:lnTo>
                <a:lnTo>
                  <a:pt x="250" y="466"/>
                </a:lnTo>
                <a:lnTo>
                  <a:pt x="276" y="530"/>
                </a:lnTo>
                <a:lnTo>
                  <a:pt x="276" y="963"/>
                </a:lnTo>
                <a:lnTo>
                  <a:pt x="0" y="963"/>
                </a:ln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Freeform 8"/>
          <p:cNvSpPr/>
          <p:nvPr/>
        </p:nvSpPr>
        <p:spPr>
          <a:xfrm>
            <a:off x="4551480" y="4206960"/>
            <a:ext cx="441360" cy="1530360"/>
          </a:xfrm>
          <a:custGeom>
            <a:avLst/>
            <a:gdLst>
              <a:gd name="textAreaLeft" fmla="*/ 0 w 441360"/>
              <a:gd name="textAreaRight" fmla="*/ 441720 w 441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8" h="964">
                <a:moveTo>
                  <a:pt x="277" y="0"/>
                </a:moveTo>
                <a:lnTo>
                  <a:pt x="243" y="11"/>
                </a:lnTo>
                <a:lnTo>
                  <a:pt x="212" y="34"/>
                </a:lnTo>
                <a:lnTo>
                  <a:pt x="186" y="68"/>
                </a:lnTo>
                <a:lnTo>
                  <a:pt x="159" y="117"/>
                </a:lnTo>
                <a:lnTo>
                  <a:pt x="121" y="201"/>
                </a:lnTo>
                <a:lnTo>
                  <a:pt x="87" y="295"/>
                </a:lnTo>
                <a:lnTo>
                  <a:pt x="42" y="428"/>
                </a:lnTo>
                <a:lnTo>
                  <a:pt x="27" y="466"/>
                </a:lnTo>
                <a:lnTo>
                  <a:pt x="0" y="530"/>
                </a:lnTo>
                <a:lnTo>
                  <a:pt x="0" y="963"/>
                </a:lnTo>
                <a:lnTo>
                  <a:pt x="277" y="963"/>
                </a:lnTo>
                <a:lnTo>
                  <a:pt x="277" y="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3884760" y="5054760"/>
            <a:ext cx="422280" cy="682560"/>
          </a:xfrm>
          <a:custGeom>
            <a:avLst/>
            <a:gdLst>
              <a:gd name="textAreaLeft" fmla="*/ 0 w 422280"/>
              <a:gd name="textAreaRight" fmla="*/ 422640 w 4222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66" h="430">
                <a:moveTo>
                  <a:pt x="0" y="429"/>
                </a:moveTo>
                <a:lnTo>
                  <a:pt x="265" y="429"/>
                </a:lnTo>
                <a:lnTo>
                  <a:pt x="265" y="0"/>
                </a:lnTo>
                <a:lnTo>
                  <a:pt x="227" y="76"/>
                </a:lnTo>
                <a:lnTo>
                  <a:pt x="197" y="129"/>
                </a:lnTo>
                <a:lnTo>
                  <a:pt x="151" y="193"/>
                </a:lnTo>
                <a:lnTo>
                  <a:pt x="113" y="243"/>
                </a:lnTo>
                <a:lnTo>
                  <a:pt x="75" y="288"/>
                </a:lnTo>
                <a:lnTo>
                  <a:pt x="41" y="315"/>
                </a:lnTo>
                <a:lnTo>
                  <a:pt x="0" y="352"/>
                </a:lnTo>
                <a:lnTo>
                  <a:pt x="0" y="42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3468600" y="5619600"/>
            <a:ext cx="327240" cy="117720"/>
          </a:xfrm>
          <a:custGeom>
            <a:avLst/>
            <a:gdLst>
              <a:gd name="textAreaLeft" fmla="*/ 0 w 327240"/>
              <a:gd name="textAreaRight" fmla="*/ 327600 w 3272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06" h="74">
                <a:moveTo>
                  <a:pt x="205" y="73"/>
                </a:moveTo>
                <a:lnTo>
                  <a:pt x="205" y="0"/>
                </a:lnTo>
                <a:lnTo>
                  <a:pt x="182" y="12"/>
                </a:lnTo>
                <a:lnTo>
                  <a:pt x="163" y="23"/>
                </a:lnTo>
                <a:lnTo>
                  <a:pt x="136" y="38"/>
                </a:lnTo>
                <a:lnTo>
                  <a:pt x="114" y="46"/>
                </a:lnTo>
                <a:lnTo>
                  <a:pt x="91" y="53"/>
                </a:lnTo>
                <a:lnTo>
                  <a:pt x="68" y="61"/>
                </a:lnTo>
                <a:lnTo>
                  <a:pt x="38" y="68"/>
                </a:lnTo>
                <a:lnTo>
                  <a:pt x="0" y="73"/>
                </a:lnTo>
                <a:lnTo>
                  <a:pt x="205" y="73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4398840" y="6229440"/>
            <a:ext cx="39708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4791600" y="6093000"/>
            <a:ext cx="1446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“chasm”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2378160" y="2355840"/>
            <a:ext cx="798480" cy="730440"/>
          </a:xfrm>
          <a:custGeom>
            <a:avLst/>
            <a:gdLst>
              <a:gd name="textAreaLeft" fmla="*/ 0 w 798480"/>
              <a:gd name="textAreaRight" fmla="*/ 798840 w 798480"/>
              <a:gd name="textAreaTop" fmla="*/ 0 h 730440"/>
              <a:gd name="textAreaBottom" fmla="*/ 730440 h 730440"/>
            </a:gdLst>
            <a:ahLst/>
            <a:rect l="textAreaLeft" t="textAreaTop" r="textAreaRight" b="textAreaBottom"/>
            <a:pathLst>
              <a:path w="503" h="460">
                <a:moveTo>
                  <a:pt x="314" y="398"/>
                </a:moveTo>
                <a:lnTo>
                  <a:pt x="362" y="422"/>
                </a:lnTo>
                <a:lnTo>
                  <a:pt x="410" y="438"/>
                </a:lnTo>
                <a:lnTo>
                  <a:pt x="446" y="446"/>
                </a:lnTo>
                <a:lnTo>
                  <a:pt x="502" y="459"/>
                </a:lnTo>
                <a:lnTo>
                  <a:pt x="0" y="459"/>
                </a:lnTo>
                <a:lnTo>
                  <a:pt x="0" y="0"/>
                </a:lnTo>
                <a:lnTo>
                  <a:pt x="39" y="87"/>
                </a:lnTo>
                <a:lnTo>
                  <a:pt x="71" y="139"/>
                </a:lnTo>
                <a:lnTo>
                  <a:pt x="115" y="207"/>
                </a:lnTo>
                <a:lnTo>
                  <a:pt x="155" y="259"/>
                </a:lnTo>
                <a:lnTo>
                  <a:pt x="199" y="307"/>
                </a:lnTo>
                <a:lnTo>
                  <a:pt x="235" y="339"/>
                </a:lnTo>
                <a:lnTo>
                  <a:pt x="267" y="366"/>
                </a:lnTo>
                <a:lnTo>
                  <a:pt x="299" y="390"/>
                </a:lnTo>
                <a:lnTo>
                  <a:pt x="314" y="398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1914480" y="1473120"/>
            <a:ext cx="465120" cy="1613160"/>
          </a:xfrm>
          <a:custGeom>
            <a:avLst/>
            <a:gdLst>
              <a:gd name="textAreaLeft" fmla="*/ 0 w 465120"/>
              <a:gd name="textAreaRight" fmla="*/ 465480 w 4651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0" y="0"/>
                </a:moveTo>
                <a:lnTo>
                  <a:pt x="32" y="8"/>
                </a:lnTo>
                <a:lnTo>
                  <a:pt x="64" y="32"/>
                </a:lnTo>
                <a:lnTo>
                  <a:pt x="91" y="68"/>
                </a:lnTo>
                <a:lnTo>
                  <a:pt x="123" y="119"/>
                </a:lnTo>
                <a:lnTo>
                  <a:pt x="164" y="211"/>
                </a:lnTo>
                <a:lnTo>
                  <a:pt x="196" y="307"/>
                </a:lnTo>
                <a:lnTo>
                  <a:pt x="244" y="447"/>
                </a:lnTo>
                <a:lnTo>
                  <a:pt x="263" y="491"/>
                </a:lnTo>
                <a:lnTo>
                  <a:pt x="292" y="559"/>
                </a:lnTo>
                <a:lnTo>
                  <a:pt x="292" y="1015"/>
                </a:lnTo>
                <a:lnTo>
                  <a:pt x="0" y="1015"/>
                </a:ln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62600" y="3311640"/>
            <a:ext cx="72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52760" y="3513240"/>
            <a:ext cx="9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1240560" y="3311640"/>
            <a:ext cx="8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1730880" y="3513240"/>
            <a:ext cx="8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2326680" y="3311640"/>
            <a:ext cx="6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82404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1217520" y="3110040"/>
            <a:ext cx="0" cy="39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167940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>
            <a:off x="2141640" y="3110040"/>
            <a:ext cx="0" cy="4014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265572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5" name="Freeform 25"/>
          <p:cNvSpPr/>
          <p:nvPr/>
        </p:nvSpPr>
        <p:spPr>
          <a:xfrm>
            <a:off x="1001880" y="2370240"/>
            <a:ext cx="446040" cy="716040"/>
          </a:xfrm>
          <a:custGeom>
            <a:avLst/>
            <a:gdLst>
              <a:gd name="textAreaLeft" fmla="*/ 0 w 446040"/>
              <a:gd name="textAreaRight" fmla="*/ 446400 w 44604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281" h="451">
                <a:moveTo>
                  <a:pt x="0" y="450"/>
                </a:moveTo>
                <a:lnTo>
                  <a:pt x="280" y="450"/>
                </a:lnTo>
                <a:lnTo>
                  <a:pt x="280" y="0"/>
                </a:lnTo>
                <a:lnTo>
                  <a:pt x="239" y="79"/>
                </a:lnTo>
                <a:lnTo>
                  <a:pt x="207" y="131"/>
                </a:lnTo>
                <a:lnTo>
                  <a:pt x="163" y="198"/>
                </a:lnTo>
                <a:lnTo>
                  <a:pt x="124" y="250"/>
                </a:lnTo>
                <a:lnTo>
                  <a:pt x="80" y="298"/>
                </a:lnTo>
                <a:lnTo>
                  <a:pt x="48" y="330"/>
                </a:lnTo>
                <a:lnTo>
                  <a:pt x="0" y="370"/>
                </a:lnTo>
                <a:lnTo>
                  <a:pt x="0" y="45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Freeform 26"/>
          <p:cNvSpPr/>
          <p:nvPr/>
        </p:nvSpPr>
        <p:spPr>
          <a:xfrm>
            <a:off x="1450800" y="1473120"/>
            <a:ext cx="465480" cy="1613160"/>
          </a:xfrm>
          <a:custGeom>
            <a:avLst/>
            <a:gdLst>
              <a:gd name="textAreaLeft" fmla="*/ 0 w 465480"/>
              <a:gd name="textAreaRight" fmla="*/ 465840 w 4654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292" y="0"/>
                </a:moveTo>
                <a:lnTo>
                  <a:pt x="259" y="8"/>
                </a:lnTo>
                <a:lnTo>
                  <a:pt x="227" y="32"/>
                </a:lnTo>
                <a:lnTo>
                  <a:pt x="200" y="68"/>
                </a:lnTo>
                <a:lnTo>
                  <a:pt x="168" y="119"/>
                </a:lnTo>
                <a:lnTo>
                  <a:pt x="127" y="211"/>
                </a:lnTo>
                <a:lnTo>
                  <a:pt x="95" y="307"/>
                </a:lnTo>
                <a:lnTo>
                  <a:pt x="47" y="447"/>
                </a:lnTo>
                <a:lnTo>
                  <a:pt x="28" y="491"/>
                </a:lnTo>
                <a:lnTo>
                  <a:pt x="0" y="559"/>
                </a:lnTo>
                <a:lnTo>
                  <a:pt x="0" y="1015"/>
                </a:lnTo>
                <a:lnTo>
                  <a:pt x="292" y="1015"/>
                </a:lnTo>
                <a:lnTo>
                  <a:pt x="292" y="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7" name="Freeform 27"/>
          <p:cNvSpPr/>
          <p:nvPr/>
        </p:nvSpPr>
        <p:spPr>
          <a:xfrm>
            <a:off x="665280" y="2963880"/>
            <a:ext cx="331560" cy="120600"/>
          </a:xfrm>
          <a:custGeom>
            <a:avLst/>
            <a:gdLst>
              <a:gd name="textAreaLeft" fmla="*/ 0 w 331560"/>
              <a:gd name="textAreaRight" fmla="*/ 331920 w 3315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09" h="76">
                <a:moveTo>
                  <a:pt x="208" y="75"/>
                </a:moveTo>
                <a:lnTo>
                  <a:pt x="208" y="0"/>
                </a:lnTo>
                <a:lnTo>
                  <a:pt x="184" y="12"/>
                </a:lnTo>
                <a:lnTo>
                  <a:pt x="165" y="23"/>
                </a:lnTo>
                <a:lnTo>
                  <a:pt x="137" y="39"/>
                </a:lnTo>
                <a:lnTo>
                  <a:pt x="115" y="47"/>
                </a:lnTo>
                <a:lnTo>
                  <a:pt x="92" y="55"/>
                </a:lnTo>
                <a:lnTo>
                  <a:pt x="69" y="63"/>
                </a:lnTo>
                <a:lnTo>
                  <a:pt x="39" y="70"/>
                </a:lnTo>
                <a:lnTo>
                  <a:pt x="0" y="75"/>
                </a:lnTo>
                <a:lnTo>
                  <a:pt x="208" y="75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3594240" y="4192560"/>
            <a:ext cx="914400" cy="838080"/>
          </a:xfrm>
          <a:custGeom>
            <a:avLst/>
            <a:gdLst>
              <a:gd name="textAreaLeft" fmla="*/ 133920 w 914400"/>
              <a:gd name="textAreaRight" fmla="*/ 780480 w 91440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5872" y="9491"/>
                </a:moveTo>
                <a:cubicBezTo>
                  <a:pt x="15275" y="7177"/>
                  <a:pt x="13189" y="5561"/>
                  <a:pt x="10800" y="5561"/>
                </a:cubicBezTo>
                <a:cubicBezTo>
                  <a:pt x="9795" y="5560"/>
                  <a:pt x="8812" y="5849"/>
                  <a:pt x="7968" y="6392"/>
                </a:cubicBezTo>
                <a:lnTo>
                  <a:pt x="4962" y="1713"/>
                </a:lnTo>
                <a:cubicBezTo>
                  <a:pt x="6703" y="594"/>
                  <a:pt x="8730" y="-1"/>
                  <a:pt x="10800" y="0"/>
                </a:cubicBezTo>
                <a:cubicBezTo>
                  <a:pt x="15725" y="0"/>
                  <a:pt x="20026" y="3332"/>
                  <a:pt x="21257" y="8101"/>
                </a:cubicBezTo>
                <a:lnTo>
                  <a:pt x="23871" y="7427"/>
                </a:lnTo>
                <a:lnTo>
                  <a:pt x="19934" y="14103"/>
                </a:lnTo>
                <a:lnTo>
                  <a:pt x="13258" y="10165"/>
                </a:lnTo>
                <a:lnTo>
                  <a:pt x="15872" y="9491"/>
                </a:lnTo>
                <a:close/>
              </a:path>
            </a:pathLst>
          </a:custGeom>
          <a:solidFill>
            <a:srgbClr val="9c2108"/>
          </a:solidFill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V="1">
            <a:off x="4416480" y="5775480"/>
            <a:ext cx="0" cy="457200"/>
          </a:xfrm>
          <a:prstGeom prst="line">
            <a:avLst/>
          </a:prstGeom>
          <a:ln w="3816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1187280" y="3986280"/>
            <a:ext cx="2565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he most significant gap is the one that separates the early adopters from the early major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293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100" spc="-1" strike="noStrike">
                <a:solidFill>
                  <a:srgbClr val="9c2108"/>
                </a:solidFill>
                <a:latin typeface="Arial"/>
              </a:rPr>
              <a:t>Innovators and Early Adopters Can Tailor a New Technology</a:t>
            </a:r>
            <a:endParaRPr b="1" lang="en-US" sz="21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 technology is first introduced, the focus is on the “thing” itself . . . the core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630360" y="5321160"/>
            <a:ext cx="8254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least in need of support are the technology enthusiasts.  These people can cobble together bits and pieces of systems and build their own rough whole produ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2924280" y="3144960"/>
            <a:ext cx="3508200" cy="1857240"/>
            <a:chOff x="2924280" y="3144960"/>
            <a:chExt cx="3508200" cy="1857240"/>
          </a:xfrm>
        </p:grpSpPr>
        <p:sp>
          <p:nvSpPr>
            <p:cNvPr id="305" name="Freeform 6"/>
            <p:cNvSpPr/>
            <p:nvPr/>
          </p:nvSpPr>
          <p:spPr>
            <a:xfrm>
              <a:off x="5519880" y="4167360"/>
              <a:ext cx="912600" cy="83484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75" h="526">
                  <a:moveTo>
                    <a:pt x="359" y="453"/>
                  </a:moveTo>
                  <a:lnTo>
                    <a:pt x="415" y="477"/>
                  </a:lnTo>
                  <a:lnTo>
                    <a:pt x="470" y="501"/>
                  </a:lnTo>
                  <a:lnTo>
                    <a:pt x="510" y="509"/>
                  </a:lnTo>
                  <a:lnTo>
                    <a:pt x="574" y="525"/>
                  </a:lnTo>
                  <a:lnTo>
                    <a:pt x="0" y="525"/>
                  </a:lnTo>
                  <a:lnTo>
                    <a:pt x="0" y="0"/>
                  </a:lnTo>
                  <a:lnTo>
                    <a:pt x="48" y="96"/>
                  </a:lnTo>
                  <a:lnTo>
                    <a:pt x="80" y="159"/>
                  </a:lnTo>
                  <a:lnTo>
                    <a:pt x="135" y="231"/>
                  </a:lnTo>
                  <a:lnTo>
                    <a:pt x="175" y="294"/>
                  </a:lnTo>
                  <a:lnTo>
                    <a:pt x="231" y="350"/>
                  </a:lnTo>
                  <a:lnTo>
                    <a:pt x="263" y="382"/>
                  </a:lnTo>
                  <a:lnTo>
                    <a:pt x="303" y="414"/>
                  </a:lnTo>
                  <a:lnTo>
                    <a:pt x="343" y="438"/>
                  </a:lnTo>
                  <a:lnTo>
                    <a:pt x="359" y="453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4873680" y="3144960"/>
              <a:ext cx="533160" cy="1857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336" h="1170">
                  <a:moveTo>
                    <a:pt x="0" y="0"/>
                  </a:moveTo>
                  <a:lnTo>
                    <a:pt x="40" y="16"/>
                  </a:lnTo>
                  <a:lnTo>
                    <a:pt x="72" y="40"/>
                  </a:lnTo>
                  <a:lnTo>
                    <a:pt x="104" y="79"/>
                  </a:lnTo>
                  <a:lnTo>
                    <a:pt x="144" y="143"/>
                  </a:lnTo>
                  <a:lnTo>
                    <a:pt x="184" y="238"/>
                  </a:lnTo>
                  <a:lnTo>
                    <a:pt x="223" y="358"/>
                  </a:lnTo>
                  <a:lnTo>
                    <a:pt x="279" y="517"/>
                  </a:lnTo>
                  <a:lnTo>
                    <a:pt x="303" y="565"/>
                  </a:lnTo>
                  <a:lnTo>
                    <a:pt x="335" y="644"/>
                  </a:lnTo>
                  <a:lnTo>
                    <a:pt x="335" y="1169"/>
                  </a:lnTo>
                  <a:lnTo>
                    <a:pt x="0" y="1169"/>
                  </a:ln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227480" y="3144960"/>
              <a:ext cx="533160" cy="1857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336" h="1170">
                  <a:moveTo>
                    <a:pt x="335" y="0"/>
                  </a:moveTo>
                  <a:lnTo>
                    <a:pt x="295" y="16"/>
                  </a:lnTo>
                  <a:lnTo>
                    <a:pt x="264" y="40"/>
                  </a:lnTo>
                  <a:lnTo>
                    <a:pt x="232" y="79"/>
                  </a:lnTo>
                  <a:lnTo>
                    <a:pt x="192" y="143"/>
                  </a:lnTo>
                  <a:lnTo>
                    <a:pt x="152" y="238"/>
                  </a:lnTo>
                  <a:lnTo>
                    <a:pt x="112" y="358"/>
                  </a:lnTo>
                  <a:lnTo>
                    <a:pt x="56" y="517"/>
                  </a:lnTo>
                  <a:lnTo>
                    <a:pt x="32" y="565"/>
                  </a:lnTo>
                  <a:lnTo>
                    <a:pt x="0" y="644"/>
                  </a:lnTo>
                  <a:lnTo>
                    <a:pt x="0" y="1169"/>
                  </a:lnTo>
                  <a:lnTo>
                    <a:pt x="335" y="1169"/>
                  </a:lnTo>
                  <a:lnTo>
                    <a:pt x="335" y="0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3417840" y="4275360"/>
              <a:ext cx="574560" cy="726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328" h="526">
                  <a:moveTo>
                    <a:pt x="0" y="525"/>
                  </a:moveTo>
                  <a:lnTo>
                    <a:pt x="327" y="525"/>
                  </a:lnTo>
                  <a:lnTo>
                    <a:pt x="327" y="0"/>
                  </a:lnTo>
                  <a:lnTo>
                    <a:pt x="279" y="96"/>
                  </a:lnTo>
                  <a:lnTo>
                    <a:pt x="239" y="159"/>
                  </a:lnTo>
                  <a:lnTo>
                    <a:pt x="191" y="231"/>
                  </a:lnTo>
                  <a:lnTo>
                    <a:pt x="144" y="294"/>
                  </a:lnTo>
                  <a:lnTo>
                    <a:pt x="96" y="350"/>
                  </a:lnTo>
                  <a:lnTo>
                    <a:pt x="56" y="382"/>
                  </a:lnTo>
                  <a:lnTo>
                    <a:pt x="0" y="430"/>
                  </a:lnTo>
                  <a:lnTo>
                    <a:pt x="0" y="52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2924280" y="4849920"/>
              <a:ext cx="393480" cy="1522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48" h="96">
                  <a:moveTo>
                    <a:pt x="247" y="95"/>
                  </a:moveTo>
                  <a:lnTo>
                    <a:pt x="247" y="0"/>
                  </a:lnTo>
                  <a:lnTo>
                    <a:pt x="223" y="15"/>
                  </a:lnTo>
                  <a:lnTo>
                    <a:pt x="191" y="31"/>
                  </a:lnTo>
                  <a:lnTo>
                    <a:pt x="167" y="47"/>
                  </a:lnTo>
                  <a:lnTo>
                    <a:pt x="136" y="55"/>
                  </a:lnTo>
                  <a:lnTo>
                    <a:pt x="112" y="71"/>
                  </a:lnTo>
                  <a:lnTo>
                    <a:pt x="80" y="79"/>
                  </a:lnTo>
                  <a:lnTo>
                    <a:pt x="48" y="87"/>
                  </a:lnTo>
                  <a:lnTo>
                    <a:pt x="0" y="95"/>
                  </a:lnTo>
                  <a:lnTo>
                    <a:pt x="247" y="95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1841400" y="3036960"/>
            <a:ext cx="1254240" cy="1251000"/>
            <a:chOff x="1841400" y="3036960"/>
            <a:chExt cx="1254240" cy="1251000"/>
          </a:xfrm>
        </p:grpSpPr>
        <p:sp>
          <p:nvSpPr>
            <p:cNvPr id="311" name="Oval 11"/>
            <p:cNvSpPr/>
            <p:nvPr/>
          </p:nvSpPr>
          <p:spPr>
            <a:xfrm>
              <a:off x="1841400" y="3036960"/>
              <a:ext cx="1254240" cy="1251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2148840" y="335772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289240" y="3398760"/>
              <a:ext cx="459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2564280" y="3357720"/>
              <a:ext cx="235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536b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1881720" y="3548160"/>
              <a:ext cx="293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1986480" y="3576960"/>
              <a:ext cx="99432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HNOLOGY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6200" y="903240"/>
            <a:ext cx="7924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ridging the Gap for the Mainstr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ajority of adopters, the technology must be augmented by an integrated suite of services and ancillary products to become the “whole product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4556160" y="3570120"/>
            <a:ext cx="16524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6243480" y="3848040"/>
            <a:ext cx="1725840" cy="93492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176880" y="3781440"/>
            <a:ext cx="1725840" cy="934920"/>
          </a:xfrm>
          <a:prstGeom prst="rect">
            <a:avLst/>
          </a:prstGeom>
          <a:solidFill>
            <a:srgbClr val="efe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6267600" y="3868560"/>
            <a:ext cx="1478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ything else that is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6267960" y="4008600"/>
            <a:ext cx="1369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ed to achieve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6265800" y="4149720"/>
            <a:ext cx="1465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option of the core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6266520" y="4290840"/>
            <a:ext cx="1690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duct into routine use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6265440" y="4430880"/>
            <a:ext cx="840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 practic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3630600" y="3078000"/>
            <a:ext cx="2000160" cy="199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4618080" y="4062240"/>
            <a:ext cx="25200" cy="25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>
            <a:off x="3825720" y="3471840"/>
            <a:ext cx="1603440" cy="11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0" name="Line 22"/>
          <p:cNvSpPr/>
          <p:nvPr/>
        </p:nvSpPr>
        <p:spPr>
          <a:xfrm flipH="1">
            <a:off x="3825720" y="3471840"/>
            <a:ext cx="1602000" cy="11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4627440" y="3071880"/>
            <a:ext cx="0" cy="19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2" name="Line 24"/>
          <p:cNvSpPr/>
          <p:nvPr/>
        </p:nvSpPr>
        <p:spPr>
          <a:xfrm flipH="1">
            <a:off x="3624120" y="4071960"/>
            <a:ext cx="200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4678200" y="3324240"/>
            <a:ext cx="547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4" name="Rectangle 26"/>
          <p:cNvSpPr/>
          <p:nvPr/>
        </p:nvSpPr>
        <p:spPr>
          <a:xfrm>
            <a:off x="4633200" y="3421080"/>
            <a:ext cx="599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3994200" y="3368520"/>
            <a:ext cx="634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3647160" y="3724200"/>
            <a:ext cx="614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3674880" y="3821040"/>
            <a:ext cx="5418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5084640" y="4199040"/>
            <a:ext cx="473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5024520" y="3798720"/>
            <a:ext cx="523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b Aid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0" name="Rectangle 32"/>
          <p:cNvSpPr/>
          <p:nvPr/>
        </p:nvSpPr>
        <p:spPr>
          <a:xfrm>
            <a:off x="4110480" y="4591080"/>
            <a:ext cx="4899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3704040" y="4205160"/>
            <a:ext cx="502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2" name="Rectangle 34"/>
          <p:cNvSpPr/>
          <p:nvPr/>
        </p:nvSpPr>
        <p:spPr>
          <a:xfrm>
            <a:off x="4662360" y="4568760"/>
            <a:ext cx="630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stallation 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4722480" y="4664160"/>
            <a:ext cx="492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4" name="Oval 36"/>
          <p:cNvSpPr/>
          <p:nvPr/>
        </p:nvSpPr>
        <p:spPr>
          <a:xfrm>
            <a:off x="4262400" y="3714840"/>
            <a:ext cx="728640" cy="7286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4416120" y="3898800"/>
            <a:ext cx="258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4491000" y="3919680"/>
            <a:ext cx="349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4660560" y="3898800"/>
            <a:ext cx="2138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4260240" y="4010040"/>
            <a:ext cx="247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4322160" y="4030560"/>
            <a:ext cx="675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HNOLOGY</a:t>
            </a:r>
            <a:endParaRPr b="0" lang="en-US" sz="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1353960" y="3816360"/>
            <a:ext cx="2685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1" name="AutoShape 48"/>
          <p:cNvSpPr/>
          <p:nvPr/>
        </p:nvSpPr>
        <p:spPr>
          <a:xfrm rot="10800000">
            <a:off x="5625720" y="4520880"/>
            <a:ext cx="1066680" cy="609480"/>
          </a:xfrm>
          <a:custGeom>
            <a:avLst/>
            <a:gdLst>
              <a:gd name="textAreaLeft" fmla="*/ 155520 w 1066680"/>
              <a:gd name="textAreaRight" fmla="*/ 911160 w 1066680"/>
              <a:gd name="textAreaTop" fmla="*/ 88920 h 609480"/>
              <a:gd name="textAreaBottom" fmla="*/ 520560 h 609480"/>
            </a:gdLst>
            <a:ahLst/>
            <a:rect l="textAreaLeft" t="textAreaTop" r="textAreaRight" b="textAreaBottom"/>
            <a:pathLst>
              <a:path w="21600" h="21600">
                <a:moveTo>
                  <a:pt x="15684" y="9056"/>
                </a:moveTo>
                <a:cubicBezTo>
                  <a:pt x="14947" y="6992"/>
                  <a:pt x="12991" y="5614"/>
                  <a:pt x="10800" y="5614"/>
                </a:cubicBezTo>
                <a:cubicBezTo>
                  <a:pt x="8829" y="5613"/>
                  <a:pt x="7029" y="6730"/>
                  <a:pt x="6153" y="8496"/>
                </a:cubicBezTo>
                <a:lnTo>
                  <a:pt x="1124" y="6001"/>
                </a:lnTo>
                <a:cubicBezTo>
                  <a:pt x="2947" y="2325"/>
                  <a:pt x="6696" y="-1"/>
                  <a:pt x="10800" y="0"/>
                </a:cubicBezTo>
                <a:cubicBezTo>
                  <a:pt x="15364" y="0"/>
                  <a:pt x="19436" y="2869"/>
                  <a:pt x="20971" y="7168"/>
                </a:cubicBezTo>
                <a:lnTo>
                  <a:pt x="23514" y="6260"/>
                </a:lnTo>
                <a:lnTo>
                  <a:pt x="20179" y="13298"/>
                </a:lnTo>
                <a:lnTo>
                  <a:pt x="13141" y="9964"/>
                </a:lnTo>
                <a:lnTo>
                  <a:pt x="15684" y="9056"/>
                </a:lnTo>
                <a:close/>
              </a:path>
            </a:pathLst>
          </a:custGeom>
          <a:solidFill>
            <a:srgbClr val="87abb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2" name="AutoShape 49"/>
          <p:cNvSpPr/>
          <p:nvPr/>
        </p:nvSpPr>
        <p:spPr>
          <a:xfrm flipH="1">
            <a:off x="5701680" y="3301920"/>
            <a:ext cx="1066680" cy="609840"/>
          </a:xfrm>
          <a:custGeom>
            <a:avLst/>
            <a:gdLst>
              <a:gd name="textAreaLeft" fmla="*/ 155520 w 1066680"/>
              <a:gd name="textAreaRight" fmla="*/ 911160 w 1066680"/>
              <a:gd name="textAreaTop" fmla="*/ 88920 h 609840"/>
              <a:gd name="textAreaBottom" fmla="*/ 520920 h 609840"/>
            </a:gdLst>
            <a:ahLst/>
            <a:rect l="textAreaLeft" t="textAreaTop" r="textAreaRight" b="textAreaBottom"/>
            <a:pathLst>
              <a:path w="21600" h="21600">
                <a:moveTo>
                  <a:pt x="16456" y="9281"/>
                </a:moveTo>
                <a:cubicBezTo>
                  <a:pt x="15769" y="6721"/>
                  <a:pt x="13449" y="4943"/>
                  <a:pt x="10800" y="4943"/>
                </a:cubicBezTo>
                <a:cubicBezTo>
                  <a:pt x="8195" y="4942"/>
                  <a:pt x="5903" y="6663"/>
                  <a:pt x="5175" y="9164"/>
                </a:cubicBezTo>
                <a:lnTo>
                  <a:pt x="429" y="7784"/>
                </a:lnTo>
                <a:cubicBezTo>
                  <a:pt x="1770" y="3172"/>
                  <a:pt x="5996" y="-1"/>
                  <a:pt x="10800" y="0"/>
                </a:cubicBezTo>
                <a:cubicBezTo>
                  <a:pt x="15686" y="0"/>
                  <a:pt x="19963" y="3280"/>
                  <a:pt x="21230" y="7999"/>
                </a:cubicBezTo>
                <a:lnTo>
                  <a:pt x="23838" y="7299"/>
                </a:lnTo>
                <a:lnTo>
                  <a:pt x="20185" y="13636"/>
                </a:lnTo>
                <a:lnTo>
                  <a:pt x="13848" y="9981"/>
                </a:lnTo>
                <a:lnTo>
                  <a:pt x="16456" y="9281"/>
                </a:lnTo>
                <a:close/>
              </a:path>
            </a:pathLst>
          </a:custGeom>
          <a:solidFill>
            <a:srgbClr val="87abb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53" name="Group 49"/>
          <p:cNvGrpSpPr/>
          <p:nvPr/>
        </p:nvGrpSpPr>
        <p:grpSpPr>
          <a:xfrm>
            <a:off x="790560" y="3213000"/>
            <a:ext cx="1162080" cy="1185840"/>
            <a:chOff x="790560" y="3213000"/>
            <a:chExt cx="1162080" cy="1185840"/>
          </a:xfrm>
        </p:grpSpPr>
        <p:sp>
          <p:nvSpPr>
            <p:cNvPr id="354" name="Oval 11"/>
            <p:cNvSpPr/>
            <p:nvPr/>
          </p:nvSpPr>
          <p:spPr>
            <a:xfrm>
              <a:off x="790560" y="3213000"/>
              <a:ext cx="1162080" cy="118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064160" y="35168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1188720" y="3556080"/>
              <a:ext cx="459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1451520" y="3516840"/>
              <a:ext cx="235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536b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817560" y="3697560"/>
              <a:ext cx="293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888480" y="3724920"/>
              <a:ext cx="99432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HNOLOGY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1976400" y="3367080"/>
            <a:ext cx="1403280" cy="1179360"/>
            <a:chOff x="1976400" y="3367080"/>
            <a:chExt cx="1403280" cy="1179360"/>
          </a:xfrm>
        </p:grpSpPr>
        <p:sp>
          <p:nvSpPr>
            <p:cNvPr id="361" name="Freeform 6"/>
            <p:cNvSpPr/>
            <p:nvPr/>
          </p:nvSpPr>
          <p:spPr>
            <a:xfrm>
              <a:off x="3014640" y="4016160"/>
              <a:ext cx="365040" cy="5302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5" h="526">
                  <a:moveTo>
                    <a:pt x="359" y="453"/>
                  </a:moveTo>
                  <a:lnTo>
                    <a:pt x="415" y="477"/>
                  </a:lnTo>
                  <a:lnTo>
                    <a:pt x="470" y="501"/>
                  </a:lnTo>
                  <a:lnTo>
                    <a:pt x="510" y="509"/>
                  </a:lnTo>
                  <a:lnTo>
                    <a:pt x="574" y="525"/>
                  </a:lnTo>
                  <a:lnTo>
                    <a:pt x="0" y="525"/>
                  </a:lnTo>
                  <a:lnTo>
                    <a:pt x="0" y="0"/>
                  </a:lnTo>
                  <a:lnTo>
                    <a:pt x="48" y="96"/>
                  </a:lnTo>
                  <a:lnTo>
                    <a:pt x="80" y="159"/>
                  </a:lnTo>
                  <a:lnTo>
                    <a:pt x="135" y="231"/>
                  </a:lnTo>
                  <a:lnTo>
                    <a:pt x="175" y="294"/>
                  </a:lnTo>
                  <a:lnTo>
                    <a:pt x="231" y="350"/>
                  </a:lnTo>
                  <a:lnTo>
                    <a:pt x="263" y="382"/>
                  </a:lnTo>
                  <a:lnTo>
                    <a:pt x="303" y="414"/>
                  </a:lnTo>
                  <a:lnTo>
                    <a:pt x="343" y="438"/>
                  </a:lnTo>
                  <a:lnTo>
                    <a:pt x="359" y="453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2756160" y="3367080"/>
              <a:ext cx="213120" cy="1179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179360"/>
                <a:gd name="textAreaBottom" fmla="*/ 1179720 h 1179360"/>
              </a:gdLst>
              <a:ahLst/>
              <a:rect l="textAreaLeft" t="textAreaTop" r="textAreaRight" b="textAreaBottom"/>
              <a:pathLst>
                <a:path w="336" h="1170">
                  <a:moveTo>
                    <a:pt x="0" y="0"/>
                  </a:moveTo>
                  <a:lnTo>
                    <a:pt x="40" y="16"/>
                  </a:lnTo>
                  <a:lnTo>
                    <a:pt x="72" y="40"/>
                  </a:lnTo>
                  <a:lnTo>
                    <a:pt x="104" y="79"/>
                  </a:lnTo>
                  <a:lnTo>
                    <a:pt x="144" y="143"/>
                  </a:lnTo>
                  <a:lnTo>
                    <a:pt x="184" y="238"/>
                  </a:lnTo>
                  <a:lnTo>
                    <a:pt x="223" y="358"/>
                  </a:lnTo>
                  <a:lnTo>
                    <a:pt x="279" y="517"/>
                  </a:lnTo>
                  <a:lnTo>
                    <a:pt x="303" y="565"/>
                  </a:lnTo>
                  <a:lnTo>
                    <a:pt x="335" y="644"/>
                  </a:lnTo>
                  <a:lnTo>
                    <a:pt x="335" y="1169"/>
                  </a:lnTo>
                  <a:lnTo>
                    <a:pt x="0" y="1169"/>
                  </a:ln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2497680" y="3367080"/>
              <a:ext cx="213120" cy="1179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179360"/>
                <a:gd name="textAreaBottom" fmla="*/ 1179720 h 1179360"/>
              </a:gdLst>
              <a:ahLst/>
              <a:rect l="textAreaLeft" t="textAreaTop" r="textAreaRight" b="textAreaBottom"/>
              <a:pathLst>
                <a:path w="336" h="1170">
                  <a:moveTo>
                    <a:pt x="335" y="0"/>
                  </a:moveTo>
                  <a:lnTo>
                    <a:pt x="295" y="16"/>
                  </a:lnTo>
                  <a:lnTo>
                    <a:pt x="264" y="40"/>
                  </a:lnTo>
                  <a:lnTo>
                    <a:pt x="232" y="79"/>
                  </a:lnTo>
                  <a:lnTo>
                    <a:pt x="192" y="143"/>
                  </a:lnTo>
                  <a:lnTo>
                    <a:pt x="152" y="238"/>
                  </a:lnTo>
                  <a:lnTo>
                    <a:pt x="112" y="358"/>
                  </a:lnTo>
                  <a:lnTo>
                    <a:pt x="56" y="517"/>
                  </a:lnTo>
                  <a:lnTo>
                    <a:pt x="32" y="565"/>
                  </a:lnTo>
                  <a:lnTo>
                    <a:pt x="0" y="644"/>
                  </a:lnTo>
                  <a:lnTo>
                    <a:pt x="0" y="1169"/>
                  </a:lnTo>
                  <a:lnTo>
                    <a:pt x="335" y="1169"/>
                  </a:lnTo>
                  <a:lnTo>
                    <a:pt x="335" y="0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173680" y="4084920"/>
              <a:ext cx="229680" cy="4615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328" h="526">
                  <a:moveTo>
                    <a:pt x="0" y="525"/>
                  </a:moveTo>
                  <a:lnTo>
                    <a:pt x="327" y="525"/>
                  </a:lnTo>
                  <a:lnTo>
                    <a:pt x="327" y="0"/>
                  </a:lnTo>
                  <a:lnTo>
                    <a:pt x="279" y="96"/>
                  </a:lnTo>
                  <a:lnTo>
                    <a:pt x="239" y="159"/>
                  </a:lnTo>
                  <a:lnTo>
                    <a:pt x="191" y="231"/>
                  </a:lnTo>
                  <a:lnTo>
                    <a:pt x="144" y="294"/>
                  </a:lnTo>
                  <a:lnTo>
                    <a:pt x="96" y="350"/>
                  </a:lnTo>
                  <a:lnTo>
                    <a:pt x="56" y="382"/>
                  </a:lnTo>
                  <a:lnTo>
                    <a:pt x="0" y="430"/>
                  </a:lnTo>
                  <a:lnTo>
                    <a:pt x="0" y="52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1976400" y="4449960"/>
              <a:ext cx="157320" cy="964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8" h="96">
                  <a:moveTo>
                    <a:pt x="247" y="95"/>
                  </a:moveTo>
                  <a:lnTo>
                    <a:pt x="247" y="0"/>
                  </a:lnTo>
                  <a:lnTo>
                    <a:pt x="223" y="15"/>
                  </a:lnTo>
                  <a:lnTo>
                    <a:pt x="191" y="31"/>
                  </a:lnTo>
                  <a:lnTo>
                    <a:pt x="167" y="47"/>
                  </a:lnTo>
                  <a:lnTo>
                    <a:pt x="136" y="55"/>
                  </a:lnTo>
                  <a:lnTo>
                    <a:pt x="112" y="71"/>
                  </a:lnTo>
                  <a:lnTo>
                    <a:pt x="80" y="79"/>
                  </a:lnTo>
                  <a:lnTo>
                    <a:pt x="48" y="87"/>
                  </a:lnTo>
                  <a:lnTo>
                    <a:pt x="0" y="95"/>
                  </a:lnTo>
                  <a:lnTo>
                    <a:pt x="247" y="95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familiar with the SEI course sequence that supports the TSP/PSP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produce a timeline for an introduction sequence based on th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“Whole Product” Concep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663560" y="1422360"/>
            <a:ext cx="5181480" cy="4495680"/>
            <a:chOff x="1663560" y="1422360"/>
            <a:chExt cx="5181480" cy="4495680"/>
          </a:xfrm>
        </p:grpSpPr>
        <p:sp>
          <p:nvSpPr>
            <p:cNvPr id="368" name="Rectangle 5"/>
            <p:cNvSpPr/>
            <p:nvPr/>
          </p:nvSpPr>
          <p:spPr>
            <a:xfrm>
              <a:off x="1663560" y="1422360"/>
              <a:ext cx="518148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>
              <a:off x="2279520" y="1741320"/>
              <a:ext cx="4037040" cy="3938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0" name="Oval 7"/>
            <p:cNvSpPr/>
            <p:nvPr/>
          </p:nvSpPr>
          <p:spPr>
            <a:xfrm>
              <a:off x="3620880" y="3046320"/>
              <a:ext cx="1341360" cy="13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3987000" y="3130560"/>
              <a:ext cx="668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3862080" y="3395520"/>
              <a:ext cx="10018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3179520" y="2143080"/>
              <a:ext cx="93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3399840" y="230652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3666600" y="230652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3265560" y="2459160"/>
              <a:ext cx="754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7" name="Rectangle 14"/>
            <p:cNvSpPr/>
            <p:nvPr/>
          </p:nvSpPr>
          <p:spPr>
            <a:xfrm>
              <a:off x="2539800" y="3230640"/>
              <a:ext cx="277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8" name="Rectangle 15"/>
            <p:cNvSpPr/>
            <p:nvPr/>
          </p:nvSpPr>
          <p:spPr>
            <a:xfrm>
              <a:off x="2622240" y="3230640"/>
              <a:ext cx="7365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ining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9" name="Rectangle 16"/>
            <p:cNvSpPr/>
            <p:nvPr/>
          </p:nvSpPr>
          <p:spPr>
            <a:xfrm>
              <a:off x="3817440" y="4811760"/>
              <a:ext cx="9910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0" name="Rectangle 17"/>
            <p:cNvSpPr/>
            <p:nvPr/>
          </p:nvSpPr>
          <p:spPr>
            <a:xfrm>
              <a:off x="4063320" y="496260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1" name="Rectangle 18"/>
            <p:cNvSpPr/>
            <p:nvPr/>
          </p:nvSpPr>
          <p:spPr>
            <a:xfrm>
              <a:off x="4333320" y="496260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2" name="Rectangle 19"/>
            <p:cNvSpPr/>
            <p:nvPr/>
          </p:nvSpPr>
          <p:spPr>
            <a:xfrm>
              <a:off x="3825360" y="5129280"/>
              <a:ext cx="963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bugging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3" name="Rectangle 20"/>
            <p:cNvSpPr/>
            <p:nvPr/>
          </p:nvSpPr>
          <p:spPr>
            <a:xfrm>
              <a:off x="4389840" y="2166840"/>
              <a:ext cx="9302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4" name="Rectangle 21"/>
            <p:cNvSpPr/>
            <p:nvPr/>
          </p:nvSpPr>
          <p:spPr>
            <a:xfrm>
              <a:off x="4405320" y="2370240"/>
              <a:ext cx="8128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82880" y="4305240"/>
              <a:ext cx="8985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6" name="Line 23"/>
            <p:cNvSpPr/>
            <p:nvPr/>
          </p:nvSpPr>
          <p:spPr>
            <a:xfrm flipH="1">
              <a:off x="3063240" y="4292640"/>
              <a:ext cx="84132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7" name="Line 24"/>
            <p:cNvSpPr/>
            <p:nvPr/>
          </p:nvSpPr>
          <p:spPr>
            <a:xfrm>
              <a:off x="4971960" y="3755880"/>
              <a:ext cx="132372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8" name="Line 25"/>
            <p:cNvSpPr/>
            <p:nvPr/>
          </p:nvSpPr>
          <p:spPr>
            <a:xfrm flipV="1">
              <a:off x="4714560" y="2293560"/>
              <a:ext cx="987480" cy="89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9" name="Line 26"/>
            <p:cNvSpPr/>
            <p:nvPr/>
          </p:nvSpPr>
          <p:spPr>
            <a:xfrm flipH="1" flipV="1">
              <a:off x="4275000" y="1736640"/>
              <a:ext cx="1440" cy="12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0" name="Line 27"/>
            <p:cNvSpPr/>
            <p:nvPr/>
          </p:nvSpPr>
          <p:spPr>
            <a:xfrm flipH="1" flipV="1">
              <a:off x="2741400" y="2457000"/>
              <a:ext cx="1079280" cy="7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1" name="Line 28"/>
            <p:cNvSpPr/>
            <p:nvPr/>
          </p:nvSpPr>
          <p:spPr>
            <a:xfrm flipH="1">
              <a:off x="2311200" y="3779640"/>
              <a:ext cx="130320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2" name="Rectangle 29"/>
            <p:cNvSpPr/>
            <p:nvPr/>
          </p:nvSpPr>
          <p:spPr>
            <a:xfrm>
              <a:off x="5302800" y="4292640"/>
              <a:ext cx="465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3" name="Rectangle 30"/>
            <p:cNvSpPr/>
            <p:nvPr/>
          </p:nvSpPr>
          <p:spPr>
            <a:xfrm>
              <a:off x="2650680" y="4292640"/>
              <a:ext cx="107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4" name="Rectangle 31"/>
            <p:cNvSpPr/>
            <p:nvPr/>
          </p:nvSpPr>
          <p:spPr>
            <a:xfrm>
              <a:off x="5221800" y="3179880"/>
              <a:ext cx="7686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5" name="Rectangle 32"/>
            <p:cNvSpPr/>
            <p:nvPr/>
          </p:nvSpPr>
          <p:spPr>
            <a:xfrm>
              <a:off x="4115520" y="36082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6" name="Rectangle 33"/>
            <p:cNvSpPr/>
            <p:nvPr/>
          </p:nvSpPr>
          <p:spPr>
            <a:xfrm>
              <a:off x="3674160" y="3854520"/>
              <a:ext cx="123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97" name="Rectangle 34"/>
          <p:cNvSpPr/>
          <p:nvPr/>
        </p:nvSpPr>
        <p:spPr>
          <a:xfrm>
            <a:off x="619920" y="6129360"/>
            <a:ext cx="1456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Moore 91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Ro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mp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fluences technology adop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pons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per management (authoriz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ine management (reinforc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owered to impl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lot project team (first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ther users (balance of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177840" y="4381560"/>
            <a:ext cx="8813880" cy="2184840"/>
            <a:chOff x="177840" y="4381560"/>
            <a:chExt cx="8813880" cy="2184840"/>
          </a:xfrm>
        </p:grpSpPr>
        <p:grpSp>
          <p:nvGrpSpPr>
            <p:cNvPr id="401" name="Group 5"/>
            <p:cNvGrpSpPr/>
            <p:nvPr/>
          </p:nvGrpSpPr>
          <p:grpSpPr>
            <a:xfrm>
              <a:off x="2158920" y="4381560"/>
              <a:ext cx="1625760" cy="635040"/>
              <a:chOff x="2158920" y="4381560"/>
              <a:chExt cx="1625760" cy="635040"/>
            </a:xfrm>
          </p:grpSpPr>
          <p:sp>
            <p:nvSpPr>
              <p:cNvPr id="402" name="Text Box 6"/>
              <p:cNvSpPr/>
              <p:nvPr/>
            </p:nvSpPr>
            <p:spPr>
              <a:xfrm>
                <a:off x="2285640" y="4538520"/>
                <a:ext cx="14241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mpio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3" name="Oval 7"/>
              <p:cNvSpPr/>
              <p:nvPr/>
            </p:nvSpPr>
            <p:spPr>
              <a:xfrm>
                <a:off x="2158920" y="43815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8"/>
            <p:cNvGrpSpPr/>
            <p:nvPr/>
          </p:nvGrpSpPr>
          <p:grpSpPr>
            <a:xfrm>
              <a:off x="2565360" y="5486400"/>
              <a:ext cx="1625400" cy="635040"/>
              <a:chOff x="2565360" y="5486400"/>
              <a:chExt cx="1625400" cy="635040"/>
            </a:xfrm>
          </p:grpSpPr>
          <p:sp>
            <p:nvSpPr>
              <p:cNvPr id="405" name="Text Box 9"/>
              <p:cNvSpPr/>
              <p:nvPr/>
            </p:nvSpPr>
            <p:spPr>
              <a:xfrm>
                <a:off x="2799000" y="5618160"/>
                <a:ext cx="1212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Sponsor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6" name="Oval 10"/>
              <p:cNvSpPr/>
              <p:nvPr/>
            </p:nvSpPr>
            <p:spPr>
              <a:xfrm>
                <a:off x="2565360" y="5486400"/>
                <a:ext cx="162540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1"/>
            <p:cNvGrpSpPr/>
            <p:nvPr/>
          </p:nvGrpSpPr>
          <p:grpSpPr>
            <a:xfrm>
              <a:off x="4317840" y="4863960"/>
              <a:ext cx="1625760" cy="654120"/>
              <a:chOff x="4317840" y="4863960"/>
              <a:chExt cx="1625760" cy="654120"/>
            </a:xfrm>
          </p:grpSpPr>
          <p:sp>
            <p:nvSpPr>
              <p:cNvPr id="408" name="Text Box 12"/>
              <p:cNvSpPr/>
              <p:nvPr/>
            </p:nvSpPr>
            <p:spPr>
              <a:xfrm>
                <a:off x="4468680" y="4894200"/>
                <a:ext cx="1357560" cy="6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nge agen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9" name="Oval 13"/>
              <p:cNvSpPr/>
              <p:nvPr/>
            </p:nvSpPr>
            <p:spPr>
              <a:xfrm>
                <a:off x="4317840" y="48639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4"/>
            <p:cNvGrpSpPr/>
            <p:nvPr/>
          </p:nvGrpSpPr>
          <p:grpSpPr>
            <a:xfrm>
              <a:off x="6375240" y="4737240"/>
              <a:ext cx="2616480" cy="1600200"/>
              <a:chOff x="6375240" y="4737240"/>
              <a:chExt cx="2616480" cy="1600200"/>
            </a:xfrm>
          </p:grpSpPr>
          <p:sp>
            <p:nvSpPr>
              <p:cNvPr id="411" name="Text Box 15"/>
              <p:cNvSpPr/>
              <p:nvPr/>
            </p:nvSpPr>
            <p:spPr>
              <a:xfrm>
                <a:off x="7206120" y="5376960"/>
                <a:ext cx="959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375240" y="4737240"/>
                <a:ext cx="2616480" cy="160020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cxnSp>
          <p:nvCxnSpPr>
            <p:cNvPr id="413" name="AutoShape 17"/>
            <p:cNvCxnSpPr>
              <a:stCxn id="403" idx="6"/>
              <a:endCxn id="412" idx="1"/>
            </p:cNvCxnSpPr>
            <p:nvPr/>
          </p:nvCxnSpPr>
          <p:spPr>
            <a:xfrm>
              <a:off x="3784320" y="4699080"/>
              <a:ext cx="2973960" cy="273240"/>
            </a:xfrm>
            <a:prstGeom prst="curvedConnector2">
              <a:avLst/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4" name="AutoShape 18"/>
            <p:cNvCxnSpPr>
              <a:stCxn id="406" idx="6"/>
              <a:endCxn id="412" idx="3"/>
            </p:cNvCxnSpPr>
            <p:nvPr/>
          </p:nvCxnSpPr>
          <p:spPr>
            <a:xfrm>
              <a:off x="4191120" y="5803560"/>
              <a:ext cx="2567520" cy="299160"/>
            </a:xfrm>
            <a:prstGeom prst="curvedConnector5">
              <a:avLst>
                <a:gd name="adj1" fmla="val 42532"/>
                <a:gd name="adj2" fmla="val 127590"/>
                <a:gd name="adj3" fmla="val 42532"/>
              </a:avLst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5" name="AutoShape 19"/>
            <p:cNvCxnSpPr>
              <a:stCxn id="403" idx="5"/>
              <a:endCxn id="406" idx="0"/>
            </p:cNvCxnSpPr>
            <p:nvPr/>
          </p:nvCxnSpPr>
          <p:spPr>
            <a:xfrm rot="5400000">
              <a:off x="3179880" y="5120280"/>
              <a:ext cx="564120" cy="168840"/>
            </a:xfrm>
            <a:prstGeom prst="curvedConnector5">
              <a:avLst>
                <a:gd name="adj1" fmla="val 58301"/>
                <a:gd name="adj2" fmla="val 50000"/>
                <a:gd name="adj3" fmla="val 58301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16" name="AutoShape 20"/>
            <p:cNvCxnSpPr>
              <a:stCxn id="409" idx="5"/>
              <a:endCxn id="412" idx="2"/>
            </p:cNvCxnSpPr>
            <p:nvPr/>
          </p:nvCxnSpPr>
          <p:spPr>
            <a:xfrm flipH="1" rot="16200000">
              <a:off x="5974560" y="5136120"/>
              <a:ext cx="132480" cy="67032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17" name="Text Box 21"/>
            <p:cNvSpPr/>
            <p:nvPr/>
          </p:nvSpPr>
          <p:spPr>
            <a:xfrm>
              <a:off x="489960" y="4878360"/>
              <a:ext cx="118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418" name="Text Box 22"/>
            <p:cNvSpPr/>
            <p:nvPr/>
          </p:nvSpPr>
          <p:spPr>
            <a:xfrm>
              <a:off x="495360" y="5313240"/>
              <a:ext cx="1797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hange managemen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19" name="AutoShape 23"/>
            <p:cNvCxnSpPr/>
            <p:nvPr/>
          </p:nvCxnSpPr>
          <p:spPr>
            <a:xfrm flipH="1" flipV="1" rot="5400000">
              <a:off x="266040" y="4901760"/>
              <a:ext cx="267120" cy="267120"/>
            </a:xfrm>
            <a:prstGeom prst="curvedConnector5">
              <a:avLst>
                <a:gd name="adj1" fmla="val 2968"/>
                <a:gd name="adj2" fmla="val 49932"/>
                <a:gd name="adj3" fmla="val 2968"/>
              </a:avLst>
            </a:prstGeom>
            <a:ln w="12600">
              <a:solidFill>
                <a:srgbClr val="39536b"/>
              </a:solidFill>
              <a:prstDash val="dash"/>
              <a:miter/>
              <a:tailEnd len="lg" type="stealth" w="lg"/>
            </a:ln>
          </p:spPr>
        </p:cxnSp>
        <p:cxnSp>
          <p:nvCxnSpPr>
            <p:cNvPr id="420" name="AutoShape 24"/>
            <p:cNvCxnSpPr/>
            <p:nvPr/>
          </p:nvCxnSpPr>
          <p:spPr>
            <a:xfrm flipH="1" flipV="1" rot="5400000">
              <a:off x="266040" y="5409720"/>
              <a:ext cx="267120" cy="267120"/>
            </a:xfrm>
            <a:prstGeom prst="curvedConnector5">
              <a:avLst>
                <a:gd name="adj1" fmla="val 49932"/>
                <a:gd name="adj2" fmla="val 49932"/>
                <a:gd name="adj3" fmla="val 49932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21" name="Rectangle 25"/>
            <p:cNvSpPr/>
            <p:nvPr/>
          </p:nvSpPr>
          <p:spPr>
            <a:xfrm>
              <a:off x="177840" y="4800600"/>
              <a:ext cx="1892160" cy="109224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22" name="AutoShape 26"/>
            <p:cNvCxnSpPr>
              <a:stCxn id="406" idx="6"/>
              <a:endCxn id="409" idx="3"/>
            </p:cNvCxnSpPr>
            <p:nvPr/>
          </p:nvCxnSpPr>
          <p:spPr>
            <a:xfrm flipV="1">
              <a:off x="4191120" y="5404680"/>
              <a:ext cx="365760" cy="39924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23" name="AutoShape 27"/>
            <p:cNvCxnSpPr>
              <a:stCxn id="403" idx="5"/>
              <a:endCxn id="409" idx="2"/>
            </p:cNvCxnSpPr>
            <p:nvPr/>
          </p:nvCxnSpPr>
          <p:spPr>
            <a:xfrm flipH="1" rot="16200000">
              <a:off x="3801960" y="4666320"/>
              <a:ext cx="259200" cy="77220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s guided by the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leads each participant from contact and awareness through to trial 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ior management and change agents are involved first to build sponsorship and support f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/TSP are deployed to innovators and early adopters first, then early majority, and so fort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backward referen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nimizes resist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ncludes specific transition mechanisms for each affected target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 and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ing employe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vant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s the first wave of early adopters to trial use within a few mont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near-term quantitative results that processes and performance are impr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ar-term results help maintain sponsorship and provide evidence of direct benefit to particip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begins with an initial trial use peri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to build understanding, sponsorship,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lot projects to evaluate both the impact of TSP on the organization and the transition appr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period is followed by a series of adoption cyc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cycle repeats the trial use activities on a larger sca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ands the breadth of ado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s for expansion of the change ag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tact and Awaren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ften overlooked, these initial commitment phases cannot be ignored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ir purpose is to generate support for moving to the understanding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commitment phases will help you to find the innovators and early adopters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 management sponsors, technical sponsors, and other change ag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xternal sources add credibility, and may be required to convince managers and other leaders to take the next step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3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4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6141600" y="161460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55516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5222880" y="2957400"/>
            <a:ext cx="9298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4970880" y="3144960"/>
            <a:ext cx="673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5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9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0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Support for TSP/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novative technologies like TSP and PSP are radical departures, and are difficult to understand at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people will fill in the gaps in their understanding from their existing context, making many incorrect assumptions; others are just resistant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conditions prevent people from seeing the potential benefits of TSP/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definition, innovators and early adopters will see the benefits almost immedi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step is to find the innovators and early adopt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746460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Mechanis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ly, the primary transition mechanism for contact and awareness is a communications campaig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TSP/PSP to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ing in experts/consult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ld technical foru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om these sessions, early adopters will eme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ter, as other adopter types are needed, internal references become a key transition mechanis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-to-peop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an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nderstan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17360" y="1476000"/>
            <a:ext cx="36255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understanding phase is to prepare for trial us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plan for and conduct TSP/PSP pilot projects, all participants need train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will also need to find more innovators and early adopters for pilot projec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Without adequate preparation, participants will not be able to plan for trial use or apply TSP/PSP in practic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2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3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222600" y="163044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5227560" y="2728800"/>
            <a:ext cx="1222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4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5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6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7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8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9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17360" y="1558440"/>
            <a:ext cx="74134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-designed training is the ke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ining support for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implementation during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ining sequence was designed to build cascading support and skills for trial use on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minars and formal training courses ar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rmal courses emphasize skill-building, using constructivist learning techniq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hentic learning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l-world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by doing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bas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nsi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equenc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04920" y="1450800"/>
          <a:ext cx="8437320" cy="4977000"/>
        </p:xfrm>
        <a:graphic>
          <a:graphicData uri="http://schemas.openxmlformats.org/drawingml/2006/table">
            <a:tbl>
              <a:tblPr/>
              <a:tblGrid>
                <a:gridCol w="1838160"/>
                <a:gridCol w="2763720"/>
                <a:gridCol w="3835440"/>
              </a:tblGrid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ecutives and senior manageme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Executive Strategy Seminar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day + optional ½ day strategic planning session.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iddle and first-line manag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eading Development Team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oftware develop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(optional)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PSP Fundamentals and Advanced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ther team memb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Team Membe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roduction to Personal Proces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TSP Team Member Training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structo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nstructo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ach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Coach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ange Agent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are needed to train, coach, and mentor managers, team members, an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possible approa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 Use external expertise (SEI-authorized instructor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. Train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. Start with external support while training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recommend the third sol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 of outside expert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internal 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s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for trial use on the first pilot projects involve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-day seminar for execu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-day training course for first- and second-lin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– 2 weeks of PSP training for soft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o and a half day training course for all other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take the software engineers training and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coach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s and/or team members get more benefit from the training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s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equate time is prov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-line managers treat the course like project work and track completion of cours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are more likely to sustain sponsorship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status/progress reports are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are presented and the potential benefit to the business is establ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SP team members must complete a PSP or TSP training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uency in a programming language is a prerequisite for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 Member Training is a 2 ½ day course for teams that include members who don’t write software.  Examples includ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rd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engineers must take the standard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trial use phase is to evaluate both the TSP/PSP and the transition strateg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ial use for TSP/PSP involves conducting three to five pilot projects, gathering data, analyzing it, and evaluating the resul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uccess factors for TSP/PSP pilot projects include proper management discipline and the effective use of team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3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4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5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8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157440" y="159876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5708520" y="2367000"/>
            <a:ext cx="7560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553212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5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6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7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ic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pilot projec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baseline for measuring improve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long-term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long-term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ong-term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- -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volve Lin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volve line management in objective set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can only initiate and support process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a group is the group’s manag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rollout, ask the line managers for trial use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trial use goals in line-management measurement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trial use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ial us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ial use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ial us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Bas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ects of resistance to change can be minimized if it is understood, managed, and planned f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strategy for introducing PSP and TSP is based on change management concepts that dramatically reduce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agent for change, you must understand and apply these concepts, or risk fail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ing the Pilot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to five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plans to meet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he pilot TSP teams and their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and review th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eded adjus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irst TSP pilot projects to build experienced coaching and further adoption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.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he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ial use and adop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evaluate,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coaching-staff target of 2% to 3% of the professional popul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valuable skills and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3 to 5 medium- to large-sized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to 15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8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ortan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ploying TSP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17360" y="1709640"/>
            <a:ext cx="3632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introduced into an organization on a project-by-project or team-by-team basi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more than a training program, the new skills must be used in a team setting soon after training end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reat the deployment like a project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et goal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volve line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lan and track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773600" y="1612800"/>
          <a:ext cx="4151160" cy="4488120"/>
        </p:xfrm>
        <a:graphic>
          <a:graphicData uri="http://schemas.openxmlformats.org/drawingml/2006/table">
            <a:tbl>
              <a:tblPr/>
              <a:tblGrid>
                <a:gridCol w="380880"/>
                <a:gridCol w="3770280"/>
              </a:tblGrid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Introduction Step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rt by identifying external or internal resources to lead the effort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f internal resources are selected, send them to SEI training to become authorized instructors and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op management, then select two or three initi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he selected teams and their managers then launch the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nitor the projects and make adjustments as needed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pand the scope, selecting addition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reate or expand the pool of available SEI-authorized instructors and/or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peat starting at step 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option and Institutional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doption phase expands the use of a new technology beyond the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itutionalization expands use to include the entire organiz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806720" y="3994200"/>
            <a:ext cx="3624120" cy="23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doption can begin as soon as the organization is satisfied with pilot project results. It isn’t necessary to wait until the projects are comple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4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5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8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5537520" y="1598760"/>
            <a:ext cx="1515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5774040" y="2052720"/>
            <a:ext cx="78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5959440" y="2411280"/>
            <a:ext cx="5212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5556240" y="2728800"/>
            <a:ext cx="80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5492520" y="3021120"/>
            <a:ext cx="62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4982040" y="320688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6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7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8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9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0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1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2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3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ale-Up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TSP adoption should repeat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location’s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nd executives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at each new introduction as a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SP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plans and method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Adoption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an adoption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required skills, disciplines, and constituenc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re of full-tim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 TSP launch of the scale-up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participate in opening and closing meet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view like a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ustain long-term TSP adoption, and use, incorporate the TSP adoption goals into the organization’s business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and recognition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alary and promotio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ree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nu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otential management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 organizational policies and procedures that support the routine use of TSP/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e to provide teams with qualified TSP coach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ertion of a new technology into an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introduction, adoption, deployment, and roll-out (broad, institutional u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new technology is considered to be institutionalized when it is used routinely throughout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management is the set of activities related to managing the human elements in a technology trans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Strategy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executive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support and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 pilot introduc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eam members and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embers by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ll managers in the management ch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SP teams immediately after trai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transi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PSP instructors and 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each product are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new h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Keys to Suc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 smal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ly, use PSP and TSP on a couple of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and as the organization develops a pool of experienced team members and manag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internal capability to train individuals and launch tea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a network of sponsorship and sup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prepared to deal with resistance to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actice what you preach and plan the introduction sequence!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e and measure; it is possible to obtain results on pilot projects within a relatively shor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ing PSP and TSP into an organization is a major effort that must follow a successful transi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must be planned and orchestrated so that each step builds support and gains accept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ite of PSP/TSP courses is used to develop the necessary skills and launch effectiv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starts small and expands based on the results of thos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order to manage change the organization must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awarenes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of why the change is happe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desir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support and participate in the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h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knowledg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needed to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abilit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implement new skills and behavi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reinforc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environment to sustain the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managing change, the organization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reases the probability of su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oids losing valued employees and minimizes short-term productivity lo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300" spc="-1" strike="noStrike">
                <a:solidFill>
                  <a:srgbClr val="9c2108"/>
                </a:solidFill>
                <a:latin typeface="Arial"/>
              </a:rPr>
              <a:t>What are the potential impacts of not managing change?</a:t>
            </a:r>
            <a:endParaRPr b="1" lang="en-US" sz="23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2200" y="1600200"/>
            <a:ext cx="83232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rs may be unwilling to assign adequate resources to support the cha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rs may create negative messages about the change to their peers and subordinat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mployees may lose interest in their work resulting in productivity losses and negative impacts with custom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mployees may leave the organizatio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bsenteeism may increas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foreseen obstacles to the change seemingly appear from nowher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Funding is not made available to implement or sustain the cha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sudden shift in priorities is observed with less emphasis on the current cha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mitment to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ing technology involves moving the organization through a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in the organization must step through this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each have a different perspective of the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individuals are more likely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s will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the technology change requires a structured approach over time to deal with the organizational and the individual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mmitment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15" name="Group 25"/>
          <p:cNvGrpSpPr/>
          <p:nvPr/>
        </p:nvGrpSpPr>
        <p:grpSpPr>
          <a:xfrm>
            <a:off x="1001880" y="1767960"/>
            <a:ext cx="6486480" cy="4789080"/>
            <a:chOff x="1001880" y="1767960"/>
            <a:chExt cx="6486480" cy="4789080"/>
          </a:xfrm>
        </p:grpSpPr>
        <p:sp>
          <p:nvSpPr>
            <p:cNvPr id="116" name="Arc 4"/>
            <p:cNvSpPr/>
            <p:nvPr/>
          </p:nvSpPr>
          <p:spPr>
            <a:xfrm>
              <a:off x="1824480" y="3600000"/>
              <a:ext cx="2879640" cy="18734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</a:path>
                <a:path stroke="0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  <a:lnTo>
                    <a:pt x="12" y="0"/>
                  </a:lnTo>
                  <a:lnTo>
                    <a:pt x="21612" y="0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7" name="Arc 5"/>
            <p:cNvSpPr/>
            <p:nvPr/>
          </p:nvSpPr>
          <p:spPr>
            <a:xfrm>
              <a:off x="4672440" y="2016000"/>
              <a:ext cx="2806560" cy="165888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</a:path>
                <a:path stroke="0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  <a:lnTo>
                    <a:pt x="21600" y="21600"/>
                  </a:lnTo>
                  <a:lnTo>
                    <a:pt x="0" y="21579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395720" y="1768320"/>
              <a:ext cx="0" cy="394956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1395720" y="5706720"/>
              <a:ext cx="60926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 rot="16200000">
              <a:off x="330120" y="4030560"/>
              <a:ext cx="1631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Commitment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3552480" y="5775120"/>
              <a:ext cx="623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Time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V="1">
              <a:off x="1124280" y="1767960"/>
              <a:ext cx="0" cy="156204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4221360" y="5945040"/>
              <a:ext cx="16844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293000" y="2041200"/>
              <a:ext cx="1902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itutionaliz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3792600" y="2912760"/>
              <a:ext cx="10022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dop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3611160" y="3533400"/>
              <a:ext cx="9716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rial Us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2854440" y="4167000"/>
              <a:ext cx="15433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Understand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2626560" y="4755960"/>
              <a:ext cx="118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waren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1463400" y="5130360"/>
              <a:ext cx="867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ontac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1768680" y="5391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>
              <a:off x="6347160" y="2085840"/>
              <a:ext cx="123840" cy="12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4842000" y="2968200"/>
              <a:ext cx="1256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>
              <a:off x="4605480" y="3579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Oval 22"/>
            <p:cNvSpPr/>
            <p:nvPr/>
          </p:nvSpPr>
          <p:spPr>
            <a:xfrm>
              <a:off x="4435920" y="42130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>
              <a:off x="3859560" y="4800240"/>
              <a:ext cx="12384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1053360" y="6349680"/>
              <a:ext cx="14547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Source: [Conner 82]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47Z</dcterms:modified>
  <cp:revision>224</cp:revision>
  <dc:subject/>
  <dc:title>No Slide Title</dc:title>
</cp:coreProperties>
</file>